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0.wmf" ContentType="image/x-wmf"/>
  <Override PartName="/ppt/media/image11.png" ContentType="image/png"/>
  <Override PartName="/ppt/media/image12.jpeg" ContentType="image/jpe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EBAAC-1171-47D9-9F47-03C594500057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 dniach 18 – 19 w Zakopanem odbędą się  na obiektach dużej skoczni K-120 zawody Pucharu Świata w skokach narciarskich.Przewidywany jest udział ok.. 40 tys.widzów , w tym liczna grupa VIP-ó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ziękuję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F745-ECEF-4BFD-8519-9C18565D8D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991E-1401-48F3-9E4B-76B5854A7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80A1D-51B8-4ABB-A00C-37F65B540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4F71-CA09-45AC-B451-B4FD757B2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9FF6-8CD5-489F-BC74-00F8136B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9DC1-FDB3-4765-B342-9865650D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20C2-441F-4F34-A138-AA9B24C6F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B3BFD-7FA2-4551-A40A-A3269D943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7946C-AC5A-43E3-94A1-334D407DE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7BD6-5BF8-4530-BCAE-05D9B6ECA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7DF-0121-4717-8AB5-2D9B44D4A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906B-F01D-4177-B97C-5F61F38DC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ABF3B-3889-477D-BC82-2F7201E9D4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krakow.gddkia.gov.pl/" TargetMode="External"/><Relationship Id="rId2" Type="http://schemas.openxmlformats.org/officeDocument/2006/relationships/hyperlink" Target="http://www.autostrada-a4.pl/" TargetMode="External"/><Relationship Id="rId3" Type="http://schemas.openxmlformats.org/officeDocument/2006/relationships/hyperlink" Target="http://www.e-drogi.pl/zdwkr" TargetMode="External"/><Relationship Id="rId4" Type="http://schemas.openxmlformats.org/officeDocument/2006/relationships/image" Target="../media/image7.wmf"/><Relationship Id="rId5" Type="http://schemas.openxmlformats.org/officeDocument/2006/relationships/image" Target="../media/image3.jpeg"/><Relationship Id="rId6" Type="http://schemas.openxmlformats.org/officeDocument/2006/relationships/image" Target="../media/image4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rcRect l="0" t="0" r="769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19320" y="457200"/>
            <a:ext cx="7010280" cy="2922840"/>
          </a:xfrm>
          <a:prstGeom prst="rect">
            <a:avLst/>
          </a:prstGeom>
          <a:solidFill>
            <a:srgbClr val="ffff00">
              <a:alpha val="9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PUCHAR ŚWIATA W SKOKACH NARCIARSK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ZAKOP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24 – 26 STYCZNIA 2008 ROK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600200" y="1523880"/>
            <a:ext cx="1187280" cy="1400400"/>
          </a:xfrm>
          <a:prstGeom prst="rect">
            <a:avLst/>
          </a:prstGeom>
          <a:ln w="0">
            <a:noFill/>
          </a:ln>
        </p:spPr>
      </p:pic>
      <p:grpSp>
        <p:nvGrpSpPr>
          <p:cNvPr id="51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52" name="Picture 4" descr="Stopka"/>
            <p:cNvPicPr/>
            <p:nvPr/>
          </p:nvPicPr>
          <p:blipFill>
            <a:blip r:embed="rId3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4" name="Picture 6" descr=""/>
            <p:cNvPicPr/>
            <p:nvPr/>
          </p:nvPicPr>
          <p:blipFill>
            <a:blip r:embed="rId4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55" name=""/>
          <p:cNvGrpSpPr/>
          <p:nvPr/>
        </p:nvGrpSpPr>
        <p:grpSpPr>
          <a:xfrm>
            <a:off x="6553080" y="1447920"/>
            <a:ext cx="1377720" cy="1447200"/>
            <a:chOff x="6553080" y="1447920"/>
            <a:chExt cx="1377720" cy="1447200"/>
          </a:xfrm>
        </p:grpSpPr>
        <p:pic>
          <p:nvPicPr>
            <p:cNvPr id="56" name="WordPictureWatermark3" descr=""/>
            <p:cNvPicPr/>
            <p:nvPr/>
          </p:nvPicPr>
          <p:blipFill>
            <a:blip r:embed="rId5"/>
            <a:stretch/>
          </p:blipFill>
          <p:spPr>
            <a:xfrm>
              <a:off x="6553080" y="1447920"/>
              <a:ext cx="1377720" cy="144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" descr=""/>
            <p:cNvPicPr/>
            <p:nvPr/>
          </p:nvPicPr>
          <p:blipFill>
            <a:blip r:embed="rId6"/>
            <a:stretch/>
          </p:blipFill>
          <p:spPr>
            <a:xfrm>
              <a:off x="6876360" y="2420280"/>
              <a:ext cx="725760" cy="399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"/>
          <p:cNvGrpSpPr/>
          <p:nvPr/>
        </p:nvGrpSpPr>
        <p:grpSpPr>
          <a:xfrm>
            <a:off x="0" y="-243000"/>
            <a:ext cx="9144000" cy="7101000"/>
            <a:chOff x="0" y="-243000"/>
            <a:chExt cx="9144000" cy="7101000"/>
          </a:xfrm>
        </p:grpSpPr>
        <p:grpSp>
          <p:nvGrpSpPr>
            <p:cNvPr id="145" name=""/>
            <p:cNvGrpSpPr/>
            <p:nvPr/>
          </p:nvGrpSpPr>
          <p:grpSpPr>
            <a:xfrm>
              <a:off x="0" y="-243000"/>
              <a:ext cx="9144000" cy="7101000"/>
              <a:chOff x="0" y="-243000"/>
              <a:chExt cx="9144000" cy="7101000"/>
            </a:xfrm>
          </p:grpSpPr>
          <p:grpSp>
            <p:nvGrpSpPr>
              <p:cNvPr id="146" name=""/>
              <p:cNvGrpSpPr/>
              <p:nvPr/>
            </p:nvGrpSpPr>
            <p:grpSpPr>
              <a:xfrm>
                <a:off x="0" y="-243000"/>
                <a:ext cx="9144000" cy="7101000"/>
                <a:chOff x="0" y="-243000"/>
                <a:chExt cx="9144000" cy="7101000"/>
              </a:xfrm>
            </p:grpSpPr>
            <p:pic>
              <p:nvPicPr>
                <p:cNvPr id="147" name="" descr=""/>
                <p:cNvPicPr/>
                <p:nvPr/>
              </p:nvPicPr>
              <p:blipFill>
                <a:blip r:embed="rId1"/>
                <a:srcRect l="3319" t="1214" r="2929" b="1716"/>
                <a:stretch/>
              </p:blipFill>
              <p:spPr>
                <a:xfrm>
                  <a:off x="0" y="-243000"/>
                  <a:ext cx="9144000" cy="7101000"/>
                </a:xfrm>
                <a:prstGeom prst="rect">
                  <a:avLst/>
                </a:prstGeom>
                <a:ln w="9360">
                  <a:solidFill>
                    <a:srgbClr val="ff0000"/>
                  </a:solidFill>
                  <a:miter/>
                </a:ln>
              </p:spPr>
            </p:pic>
            <p:sp>
              <p:nvSpPr>
                <p:cNvPr id="148" name=""/>
                <p:cNvSpPr/>
                <p:nvPr/>
              </p:nvSpPr>
              <p:spPr>
                <a:xfrm>
                  <a:off x="1668600" y="1687320"/>
                  <a:ext cx="1728720" cy="2679840"/>
                </a:xfrm>
                <a:custGeom>
                  <a:avLst/>
                  <a:gdLst/>
                  <a:ahLst/>
                  <a:rect l="l" t="t" r="r" b="b"/>
                  <a:pathLst>
                    <a:path w="1089" h="1688">
                      <a:moveTo>
                        <a:pt x="61" y="0"/>
                      </a:moveTo>
                      <a:cubicBezTo>
                        <a:pt x="89" y="60"/>
                        <a:pt x="0" y="10"/>
                        <a:pt x="47" y="104"/>
                      </a:cubicBezTo>
                      <a:cubicBezTo>
                        <a:pt x="53" y="116"/>
                        <a:pt x="76" y="179"/>
                        <a:pt x="89" y="182"/>
                      </a:cubicBezTo>
                      <a:cubicBezTo>
                        <a:pt x="137" y="218"/>
                        <a:pt x="83" y="304"/>
                        <a:pt x="95" y="284"/>
                      </a:cubicBezTo>
                      <a:cubicBezTo>
                        <a:pt x="107" y="356"/>
                        <a:pt x="109" y="252"/>
                        <a:pt x="89" y="344"/>
                      </a:cubicBezTo>
                      <a:cubicBezTo>
                        <a:pt x="69" y="380"/>
                        <a:pt x="78" y="381"/>
                        <a:pt x="85" y="436"/>
                      </a:cubicBezTo>
                      <a:cubicBezTo>
                        <a:pt x="82" y="470"/>
                        <a:pt x="67" y="509"/>
                        <a:pt x="69" y="548"/>
                      </a:cubicBezTo>
                      <a:cubicBezTo>
                        <a:pt x="75" y="566"/>
                        <a:pt x="85" y="657"/>
                        <a:pt x="97" y="672"/>
                      </a:cubicBezTo>
                      <a:cubicBezTo>
                        <a:pt x="97" y="708"/>
                        <a:pt x="145" y="748"/>
                        <a:pt x="153" y="752"/>
                      </a:cubicBezTo>
                      <a:cubicBezTo>
                        <a:pt x="157" y="792"/>
                        <a:pt x="177" y="847"/>
                        <a:pt x="185" y="852"/>
                      </a:cubicBezTo>
                      <a:cubicBezTo>
                        <a:pt x="229" y="917"/>
                        <a:pt x="178" y="838"/>
                        <a:pt x="197" y="912"/>
                      </a:cubicBezTo>
                      <a:cubicBezTo>
                        <a:pt x="202" y="931"/>
                        <a:pt x="233" y="1000"/>
                        <a:pt x="233" y="1000"/>
                      </a:cubicBezTo>
                      <a:cubicBezTo>
                        <a:pt x="256" y="965"/>
                        <a:pt x="227" y="1079"/>
                        <a:pt x="261" y="1056"/>
                      </a:cubicBezTo>
                      <a:cubicBezTo>
                        <a:pt x="266" y="1064"/>
                        <a:pt x="260" y="1106"/>
                        <a:pt x="261" y="1116"/>
                      </a:cubicBezTo>
                      <a:cubicBezTo>
                        <a:pt x="268" y="1161"/>
                        <a:pt x="317" y="1146"/>
                        <a:pt x="333" y="1188"/>
                      </a:cubicBezTo>
                      <a:cubicBezTo>
                        <a:pt x="339" y="1203"/>
                        <a:pt x="373" y="1181"/>
                        <a:pt x="389" y="1184"/>
                      </a:cubicBezTo>
                      <a:cubicBezTo>
                        <a:pt x="392" y="1192"/>
                        <a:pt x="369" y="1232"/>
                        <a:pt x="389" y="1240"/>
                      </a:cubicBezTo>
                      <a:cubicBezTo>
                        <a:pt x="393" y="1283"/>
                        <a:pt x="411" y="1282"/>
                        <a:pt x="421" y="1324"/>
                      </a:cubicBezTo>
                      <a:cubicBezTo>
                        <a:pt x="423" y="1332"/>
                        <a:pt x="429" y="1374"/>
                        <a:pt x="437" y="1376"/>
                      </a:cubicBezTo>
                      <a:cubicBezTo>
                        <a:pt x="453" y="1380"/>
                        <a:pt x="485" y="1393"/>
                        <a:pt x="501" y="1396"/>
                      </a:cubicBezTo>
                      <a:cubicBezTo>
                        <a:pt x="512" y="1398"/>
                        <a:pt x="570" y="1401"/>
                        <a:pt x="581" y="1404"/>
                      </a:cubicBezTo>
                      <a:cubicBezTo>
                        <a:pt x="607" y="1421"/>
                        <a:pt x="584" y="1426"/>
                        <a:pt x="613" y="1436"/>
                      </a:cubicBezTo>
                      <a:cubicBezTo>
                        <a:pt x="627" y="1507"/>
                        <a:pt x="609" y="1486"/>
                        <a:pt x="649" y="1512"/>
                      </a:cubicBezTo>
                      <a:cubicBezTo>
                        <a:pt x="658" y="1518"/>
                        <a:pt x="669" y="1520"/>
                        <a:pt x="685" y="1516"/>
                      </a:cubicBezTo>
                      <a:cubicBezTo>
                        <a:pt x="689" y="1522"/>
                        <a:pt x="705" y="1528"/>
                        <a:pt x="709" y="1532"/>
                      </a:cubicBezTo>
                      <a:cubicBezTo>
                        <a:pt x="713" y="1536"/>
                        <a:pt x="710" y="1539"/>
                        <a:pt x="709" y="1540"/>
                      </a:cubicBezTo>
                      <a:cubicBezTo>
                        <a:pt x="714" y="1551"/>
                        <a:pt x="697" y="1528"/>
                        <a:pt x="705" y="1536"/>
                      </a:cubicBezTo>
                      <a:cubicBezTo>
                        <a:pt x="748" y="1579"/>
                        <a:pt x="733" y="1564"/>
                        <a:pt x="781" y="1584"/>
                      </a:cubicBezTo>
                      <a:cubicBezTo>
                        <a:pt x="784" y="1611"/>
                        <a:pt x="756" y="1563"/>
                        <a:pt x="773" y="1584"/>
                      </a:cubicBezTo>
                      <a:cubicBezTo>
                        <a:pt x="787" y="1601"/>
                        <a:pt x="937" y="1668"/>
                        <a:pt x="861" y="1636"/>
                      </a:cubicBezTo>
                      <a:cubicBezTo>
                        <a:pt x="937" y="1672"/>
                        <a:pt x="915" y="1678"/>
                        <a:pt x="1001" y="1684"/>
                      </a:cubicBezTo>
                      <a:cubicBezTo>
                        <a:pt x="1012" y="1681"/>
                        <a:pt x="1042" y="1671"/>
                        <a:pt x="1053" y="1668"/>
                      </a:cubicBezTo>
                      <a:cubicBezTo>
                        <a:pt x="1061" y="1666"/>
                        <a:pt x="1089" y="1688"/>
                        <a:pt x="1089" y="1688"/>
                      </a:cubicBezTo>
                    </a:path>
                  </a:pathLst>
                </a:custGeom>
                <a:noFill/>
                <a:ln w="38160">
                  <a:solidFill>
                    <a:srgbClr val="ff66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3236760" y="2570040"/>
                  <a:ext cx="555840" cy="3556080"/>
                </a:xfrm>
                <a:custGeom>
                  <a:avLst/>
                  <a:gdLst/>
                  <a:ahLst/>
                  <a:rect l="l" t="t" r="r" b="b"/>
                  <a:pathLst>
                    <a:path w="350" h="2240">
                      <a:moveTo>
                        <a:pt x="89" y="0"/>
                      </a:moveTo>
                      <a:cubicBezTo>
                        <a:pt x="85" y="75"/>
                        <a:pt x="99" y="80"/>
                        <a:pt x="41" y="92"/>
                      </a:cubicBezTo>
                      <a:cubicBezTo>
                        <a:pt x="20" y="124"/>
                        <a:pt x="46" y="110"/>
                        <a:pt x="49" y="160"/>
                      </a:cubicBezTo>
                      <a:cubicBezTo>
                        <a:pt x="46" y="184"/>
                        <a:pt x="36" y="228"/>
                        <a:pt x="13" y="236"/>
                      </a:cubicBezTo>
                      <a:cubicBezTo>
                        <a:pt x="0" y="275"/>
                        <a:pt x="3" y="329"/>
                        <a:pt x="13" y="368"/>
                      </a:cubicBezTo>
                      <a:cubicBezTo>
                        <a:pt x="14" y="372"/>
                        <a:pt x="21" y="371"/>
                        <a:pt x="25" y="372"/>
                      </a:cubicBezTo>
                      <a:cubicBezTo>
                        <a:pt x="44" y="375"/>
                        <a:pt x="62" y="377"/>
                        <a:pt x="81" y="380"/>
                      </a:cubicBezTo>
                      <a:cubicBezTo>
                        <a:pt x="85" y="410"/>
                        <a:pt x="87" y="429"/>
                        <a:pt x="105" y="452"/>
                      </a:cubicBezTo>
                      <a:cubicBezTo>
                        <a:pt x="112" y="472"/>
                        <a:pt x="146" y="469"/>
                        <a:pt x="161" y="484"/>
                      </a:cubicBezTo>
                      <a:cubicBezTo>
                        <a:pt x="177" y="508"/>
                        <a:pt x="165" y="484"/>
                        <a:pt x="141" y="528"/>
                      </a:cubicBezTo>
                      <a:cubicBezTo>
                        <a:pt x="146" y="549"/>
                        <a:pt x="129" y="564"/>
                        <a:pt x="117" y="576"/>
                      </a:cubicBezTo>
                      <a:cubicBezTo>
                        <a:pt x="106" y="619"/>
                        <a:pt x="141" y="636"/>
                        <a:pt x="181" y="660"/>
                      </a:cubicBezTo>
                      <a:cubicBezTo>
                        <a:pt x="188" y="682"/>
                        <a:pt x="213" y="719"/>
                        <a:pt x="221" y="744"/>
                      </a:cubicBezTo>
                      <a:cubicBezTo>
                        <a:pt x="225" y="727"/>
                        <a:pt x="214" y="912"/>
                        <a:pt x="229" y="900"/>
                      </a:cubicBezTo>
                      <a:cubicBezTo>
                        <a:pt x="237" y="894"/>
                        <a:pt x="189" y="980"/>
                        <a:pt x="189" y="980"/>
                      </a:cubicBezTo>
                      <a:cubicBezTo>
                        <a:pt x="101" y="992"/>
                        <a:pt x="52" y="1046"/>
                        <a:pt x="57" y="1068"/>
                      </a:cubicBezTo>
                      <a:cubicBezTo>
                        <a:pt x="56" y="1119"/>
                        <a:pt x="129" y="1081"/>
                        <a:pt x="125" y="1132"/>
                      </a:cubicBezTo>
                      <a:cubicBezTo>
                        <a:pt x="124" y="1146"/>
                        <a:pt x="141" y="1296"/>
                        <a:pt x="141" y="1216"/>
                      </a:cubicBezTo>
                      <a:cubicBezTo>
                        <a:pt x="134" y="1299"/>
                        <a:pt x="166" y="1373"/>
                        <a:pt x="177" y="1412"/>
                      </a:cubicBezTo>
                      <a:cubicBezTo>
                        <a:pt x="190" y="1452"/>
                        <a:pt x="211" y="1450"/>
                        <a:pt x="221" y="1456"/>
                      </a:cubicBezTo>
                      <a:cubicBezTo>
                        <a:pt x="231" y="1462"/>
                        <a:pt x="225" y="1452"/>
                        <a:pt x="237" y="1448"/>
                      </a:cubicBezTo>
                      <a:cubicBezTo>
                        <a:pt x="225" y="1436"/>
                        <a:pt x="252" y="1451"/>
                        <a:pt x="241" y="1484"/>
                      </a:cubicBezTo>
                      <a:cubicBezTo>
                        <a:pt x="240" y="1488"/>
                        <a:pt x="333" y="1676"/>
                        <a:pt x="333" y="1676"/>
                      </a:cubicBezTo>
                      <a:cubicBezTo>
                        <a:pt x="340" y="1722"/>
                        <a:pt x="321" y="1917"/>
                        <a:pt x="337" y="1948"/>
                      </a:cubicBezTo>
                      <a:cubicBezTo>
                        <a:pt x="350" y="1974"/>
                        <a:pt x="272" y="2027"/>
                        <a:pt x="293" y="2048"/>
                      </a:cubicBezTo>
                      <a:cubicBezTo>
                        <a:pt x="303" y="2077"/>
                        <a:pt x="304" y="2121"/>
                        <a:pt x="317" y="2140"/>
                      </a:cubicBezTo>
                      <a:cubicBezTo>
                        <a:pt x="317" y="2154"/>
                        <a:pt x="140" y="2240"/>
                        <a:pt x="233" y="2240"/>
                      </a:cubicBezTo>
                    </a:path>
                  </a:pathLst>
                </a:custGeom>
                <a:noFill/>
                <a:ln w="381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3073320" y="4627440"/>
                  <a:ext cx="482760" cy="1690560"/>
                </a:xfrm>
                <a:custGeom>
                  <a:avLst/>
                  <a:gdLst/>
                  <a:ahLst/>
                  <a:rect l="l" t="t" r="r" b="b"/>
                  <a:pathLst>
                    <a:path w="304" h="1065">
                      <a:moveTo>
                        <a:pt x="236" y="0"/>
                      </a:moveTo>
                      <a:cubicBezTo>
                        <a:pt x="235" y="7"/>
                        <a:pt x="233" y="27"/>
                        <a:pt x="224" y="32"/>
                      </a:cubicBezTo>
                      <a:cubicBezTo>
                        <a:pt x="218" y="35"/>
                        <a:pt x="211" y="34"/>
                        <a:pt x="204" y="36"/>
                      </a:cubicBezTo>
                      <a:cubicBezTo>
                        <a:pt x="196" y="38"/>
                        <a:pt x="180" y="44"/>
                        <a:pt x="180" y="44"/>
                      </a:cubicBezTo>
                      <a:cubicBezTo>
                        <a:pt x="168" y="62"/>
                        <a:pt x="156" y="77"/>
                        <a:pt x="136" y="84"/>
                      </a:cubicBezTo>
                      <a:cubicBezTo>
                        <a:pt x="139" y="124"/>
                        <a:pt x="164" y="164"/>
                        <a:pt x="156" y="212"/>
                      </a:cubicBezTo>
                      <a:cubicBezTo>
                        <a:pt x="155" y="239"/>
                        <a:pt x="167" y="262"/>
                        <a:pt x="164" y="288"/>
                      </a:cubicBezTo>
                      <a:cubicBezTo>
                        <a:pt x="162" y="301"/>
                        <a:pt x="140" y="324"/>
                        <a:pt x="140" y="324"/>
                      </a:cubicBezTo>
                      <a:cubicBezTo>
                        <a:pt x="136" y="457"/>
                        <a:pt x="160" y="479"/>
                        <a:pt x="84" y="492"/>
                      </a:cubicBezTo>
                      <a:cubicBezTo>
                        <a:pt x="75" y="520"/>
                        <a:pt x="95" y="522"/>
                        <a:pt x="68" y="540"/>
                      </a:cubicBezTo>
                      <a:cubicBezTo>
                        <a:pt x="49" y="569"/>
                        <a:pt x="28" y="596"/>
                        <a:pt x="8" y="624"/>
                      </a:cubicBezTo>
                      <a:cubicBezTo>
                        <a:pt x="0" y="636"/>
                        <a:pt x="12" y="668"/>
                        <a:pt x="12" y="668"/>
                      </a:cubicBezTo>
                      <a:cubicBezTo>
                        <a:pt x="13" y="700"/>
                        <a:pt x="8" y="728"/>
                        <a:pt x="12" y="760"/>
                      </a:cubicBezTo>
                      <a:cubicBezTo>
                        <a:pt x="13" y="765"/>
                        <a:pt x="3" y="767"/>
                        <a:pt x="4" y="772"/>
                      </a:cubicBezTo>
                      <a:cubicBezTo>
                        <a:pt x="8" y="785"/>
                        <a:pt x="9" y="799"/>
                        <a:pt x="12" y="812"/>
                      </a:cubicBezTo>
                      <a:cubicBezTo>
                        <a:pt x="14" y="820"/>
                        <a:pt x="20" y="836"/>
                        <a:pt x="20" y="836"/>
                      </a:cubicBezTo>
                      <a:cubicBezTo>
                        <a:pt x="22" y="865"/>
                        <a:pt x="23" y="889"/>
                        <a:pt x="32" y="916"/>
                      </a:cubicBezTo>
                      <a:cubicBezTo>
                        <a:pt x="33" y="931"/>
                        <a:pt x="32" y="946"/>
                        <a:pt x="36" y="960"/>
                      </a:cubicBezTo>
                      <a:cubicBezTo>
                        <a:pt x="38" y="968"/>
                        <a:pt x="60" y="971"/>
                        <a:pt x="64" y="972"/>
                      </a:cubicBezTo>
                      <a:cubicBezTo>
                        <a:pt x="72" y="974"/>
                        <a:pt x="88" y="980"/>
                        <a:pt x="88" y="980"/>
                      </a:cubicBezTo>
                      <a:cubicBezTo>
                        <a:pt x="100" y="1016"/>
                        <a:pt x="88" y="1019"/>
                        <a:pt x="132" y="1024"/>
                      </a:cubicBezTo>
                      <a:cubicBezTo>
                        <a:pt x="153" y="1065"/>
                        <a:pt x="206" y="1010"/>
                        <a:pt x="248" y="1008"/>
                      </a:cubicBezTo>
                      <a:cubicBezTo>
                        <a:pt x="287" y="995"/>
                        <a:pt x="277" y="1003"/>
                        <a:pt x="292" y="980"/>
                      </a:cubicBezTo>
                      <a:cubicBezTo>
                        <a:pt x="295" y="976"/>
                        <a:pt x="304" y="972"/>
                        <a:pt x="304" y="972"/>
                      </a:cubicBezTo>
                    </a:path>
                  </a:pathLst>
                </a:custGeom>
                <a:noFill/>
                <a:ln w="38160">
                  <a:solidFill>
                    <a:srgbClr val="008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3321000" y="2474640"/>
                  <a:ext cx="819360" cy="1986120"/>
                </a:xfrm>
                <a:custGeom>
                  <a:avLst/>
                  <a:gdLst/>
                  <a:ahLst/>
                  <a:rect l="l" t="t" r="r" b="b"/>
                  <a:pathLst>
                    <a:path w="516" h="1251">
                      <a:moveTo>
                        <a:pt x="272" y="0"/>
                      </a:moveTo>
                      <a:cubicBezTo>
                        <a:pt x="275" y="10"/>
                        <a:pt x="272" y="24"/>
                        <a:pt x="280" y="32"/>
                      </a:cubicBezTo>
                      <a:cubicBezTo>
                        <a:pt x="291" y="43"/>
                        <a:pt x="347" y="65"/>
                        <a:pt x="364" y="76"/>
                      </a:cubicBezTo>
                      <a:cubicBezTo>
                        <a:pt x="363" y="113"/>
                        <a:pt x="328" y="140"/>
                        <a:pt x="336" y="156"/>
                      </a:cubicBezTo>
                      <a:cubicBezTo>
                        <a:pt x="343" y="177"/>
                        <a:pt x="325" y="224"/>
                        <a:pt x="344" y="236"/>
                      </a:cubicBezTo>
                      <a:cubicBezTo>
                        <a:pt x="345" y="257"/>
                        <a:pt x="409" y="279"/>
                        <a:pt x="412" y="300"/>
                      </a:cubicBezTo>
                      <a:cubicBezTo>
                        <a:pt x="413" y="308"/>
                        <a:pt x="416" y="352"/>
                        <a:pt x="416" y="352"/>
                      </a:cubicBezTo>
                      <a:cubicBezTo>
                        <a:pt x="405" y="353"/>
                        <a:pt x="397" y="382"/>
                        <a:pt x="388" y="388"/>
                      </a:cubicBezTo>
                      <a:cubicBezTo>
                        <a:pt x="384" y="391"/>
                        <a:pt x="388" y="401"/>
                        <a:pt x="392" y="404"/>
                      </a:cubicBezTo>
                      <a:cubicBezTo>
                        <a:pt x="399" y="409"/>
                        <a:pt x="408" y="407"/>
                        <a:pt x="416" y="408"/>
                      </a:cubicBezTo>
                      <a:cubicBezTo>
                        <a:pt x="427" y="419"/>
                        <a:pt x="452" y="436"/>
                        <a:pt x="452" y="436"/>
                      </a:cubicBezTo>
                      <a:cubicBezTo>
                        <a:pt x="457" y="456"/>
                        <a:pt x="464" y="467"/>
                        <a:pt x="468" y="488"/>
                      </a:cubicBezTo>
                      <a:cubicBezTo>
                        <a:pt x="470" y="522"/>
                        <a:pt x="472" y="552"/>
                        <a:pt x="480" y="584"/>
                      </a:cubicBezTo>
                      <a:cubicBezTo>
                        <a:pt x="481" y="619"/>
                        <a:pt x="477" y="725"/>
                        <a:pt x="480" y="760"/>
                      </a:cubicBezTo>
                      <a:cubicBezTo>
                        <a:pt x="481" y="773"/>
                        <a:pt x="508" y="852"/>
                        <a:pt x="508" y="852"/>
                      </a:cubicBezTo>
                      <a:cubicBezTo>
                        <a:pt x="508" y="867"/>
                        <a:pt x="493" y="906"/>
                        <a:pt x="516" y="940"/>
                      </a:cubicBezTo>
                      <a:cubicBezTo>
                        <a:pt x="513" y="969"/>
                        <a:pt x="515" y="982"/>
                        <a:pt x="492" y="1000"/>
                      </a:cubicBezTo>
                      <a:cubicBezTo>
                        <a:pt x="484" y="1006"/>
                        <a:pt x="476" y="1011"/>
                        <a:pt x="468" y="1016"/>
                      </a:cubicBezTo>
                      <a:cubicBezTo>
                        <a:pt x="464" y="1019"/>
                        <a:pt x="456" y="1024"/>
                        <a:pt x="456" y="1024"/>
                      </a:cubicBezTo>
                      <a:cubicBezTo>
                        <a:pt x="448" y="1055"/>
                        <a:pt x="432" y="1057"/>
                        <a:pt x="404" y="1064"/>
                      </a:cubicBezTo>
                      <a:cubicBezTo>
                        <a:pt x="400" y="1068"/>
                        <a:pt x="395" y="1071"/>
                        <a:pt x="392" y="1076"/>
                      </a:cubicBezTo>
                      <a:cubicBezTo>
                        <a:pt x="390" y="1080"/>
                        <a:pt x="391" y="1085"/>
                        <a:pt x="388" y="1088"/>
                      </a:cubicBezTo>
                      <a:cubicBezTo>
                        <a:pt x="381" y="1097"/>
                        <a:pt x="364" y="1112"/>
                        <a:pt x="364" y="1112"/>
                      </a:cubicBezTo>
                      <a:cubicBezTo>
                        <a:pt x="354" y="1141"/>
                        <a:pt x="338" y="1163"/>
                        <a:pt x="312" y="1180"/>
                      </a:cubicBezTo>
                      <a:cubicBezTo>
                        <a:pt x="264" y="1251"/>
                        <a:pt x="160" y="1236"/>
                        <a:pt x="148" y="1240"/>
                      </a:cubicBezTo>
                      <a:cubicBezTo>
                        <a:pt x="168" y="1241"/>
                        <a:pt x="180" y="1241"/>
                        <a:pt x="200" y="1236"/>
                      </a:cubicBezTo>
                      <a:cubicBezTo>
                        <a:pt x="206" y="1235"/>
                        <a:pt x="128" y="1240"/>
                        <a:pt x="124" y="1236"/>
                      </a:cubicBezTo>
                      <a:cubicBezTo>
                        <a:pt x="117" y="1229"/>
                        <a:pt x="0" y="1196"/>
                        <a:pt x="76" y="1224"/>
                      </a:cubicBezTo>
                      <a:cubicBezTo>
                        <a:pt x="80" y="1220"/>
                        <a:pt x="152" y="1248"/>
                        <a:pt x="136" y="1240"/>
                      </a:cubicBezTo>
                      <a:cubicBezTo>
                        <a:pt x="147" y="1240"/>
                        <a:pt x="136" y="1240"/>
                        <a:pt x="136" y="1240"/>
                      </a:cubicBezTo>
                    </a:path>
                  </a:pathLst>
                </a:custGeom>
                <a:noFill/>
                <a:ln w="38160">
                  <a:solidFill>
                    <a:srgbClr val="cc00cc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759120" y="2423880"/>
                  <a:ext cx="3200400" cy="3568680"/>
                </a:xfrm>
                <a:custGeom>
                  <a:avLst/>
                  <a:gdLst/>
                  <a:ahLst/>
                  <a:rect l="l" t="t" r="r" b="b"/>
                  <a:pathLst>
                    <a:path w="2016" h="2248">
                      <a:moveTo>
                        <a:pt x="2016" y="0"/>
                      </a:moveTo>
                      <a:cubicBezTo>
                        <a:pt x="1990" y="9"/>
                        <a:pt x="1970" y="31"/>
                        <a:pt x="1944" y="40"/>
                      </a:cubicBezTo>
                      <a:cubicBezTo>
                        <a:pt x="1895" y="56"/>
                        <a:pt x="1852" y="109"/>
                        <a:pt x="1800" y="116"/>
                      </a:cubicBezTo>
                      <a:cubicBezTo>
                        <a:pt x="1742" y="174"/>
                        <a:pt x="1700" y="136"/>
                        <a:pt x="1616" y="144"/>
                      </a:cubicBezTo>
                      <a:cubicBezTo>
                        <a:pt x="1524" y="142"/>
                        <a:pt x="1334" y="113"/>
                        <a:pt x="1216" y="152"/>
                      </a:cubicBezTo>
                      <a:cubicBezTo>
                        <a:pt x="1211" y="168"/>
                        <a:pt x="1205" y="184"/>
                        <a:pt x="1200" y="200"/>
                      </a:cubicBezTo>
                      <a:cubicBezTo>
                        <a:pt x="1197" y="208"/>
                        <a:pt x="1188" y="260"/>
                        <a:pt x="1188" y="260"/>
                      </a:cubicBezTo>
                      <a:cubicBezTo>
                        <a:pt x="1194" y="310"/>
                        <a:pt x="1207" y="286"/>
                        <a:pt x="1224" y="320"/>
                      </a:cubicBezTo>
                      <a:cubicBezTo>
                        <a:pt x="1238" y="349"/>
                        <a:pt x="1211" y="395"/>
                        <a:pt x="1232" y="416"/>
                      </a:cubicBezTo>
                      <a:cubicBezTo>
                        <a:pt x="1264" y="452"/>
                        <a:pt x="1227" y="468"/>
                        <a:pt x="1260" y="488"/>
                      </a:cubicBezTo>
                      <a:cubicBezTo>
                        <a:pt x="1287" y="508"/>
                        <a:pt x="1381" y="507"/>
                        <a:pt x="1396" y="536"/>
                      </a:cubicBezTo>
                      <a:cubicBezTo>
                        <a:pt x="1392" y="616"/>
                        <a:pt x="1416" y="621"/>
                        <a:pt x="1352" y="664"/>
                      </a:cubicBezTo>
                      <a:cubicBezTo>
                        <a:pt x="1306" y="803"/>
                        <a:pt x="1328" y="692"/>
                        <a:pt x="1328" y="692"/>
                      </a:cubicBezTo>
                      <a:cubicBezTo>
                        <a:pt x="1284" y="808"/>
                        <a:pt x="1293" y="808"/>
                        <a:pt x="1300" y="812"/>
                      </a:cubicBezTo>
                      <a:cubicBezTo>
                        <a:pt x="1317" y="821"/>
                        <a:pt x="1304" y="868"/>
                        <a:pt x="1304" y="868"/>
                      </a:cubicBezTo>
                      <a:cubicBezTo>
                        <a:pt x="1315" y="884"/>
                        <a:pt x="1309" y="948"/>
                        <a:pt x="1320" y="964"/>
                      </a:cubicBezTo>
                      <a:cubicBezTo>
                        <a:pt x="1360" y="1024"/>
                        <a:pt x="1364" y="997"/>
                        <a:pt x="1348" y="1044"/>
                      </a:cubicBezTo>
                      <a:cubicBezTo>
                        <a:pt x="1343" y="1060"/>
                        <a:pt x="1381" y="1070"/>
                        <a:pt x="1372" y="1084"/>
                      </a:cubicBezTo>
                      <a:cubicBezTo>
                        <a:pt x="1347" y="1122"/>
                        <a:pt x="1447" y="1055"/>
                        <a:pt x="1428" y="1112"/>
                      </a:cubicBezTo>
                      <a:cubicBezTo>
                        <a:pt x="1425" y="1120"/>
                        <a:pt x="1436" y="1208"/>
                        <a:pt x="1436" y="1208"/>
                      </a:cubicBezTo>
                      <a:cubicBezTo>
                        <a:pt x="1444" y="1204"/>
                        <a:pt x="1394" y="1454"/>
                        <a:pt x="1352" y="1440"/>
                      </a:cubicBezTo>
                      <a:cubicBezTo>
                        <a:pt x="1282" y="1487"/>
                        <a:pt x="1288" y="1456"/>
                        <a:pt x="1200" y="1512"/>
                      </a:cubicBezTo>
                      <a:cubicBezTo>
                        <a:pt x="1120" y="1522"/>
                        <a:pt x="1202" y="1559"/>
                        <a:pt x="1116" y="1564"/>
                      </a:cubicBezTo>
                      <a:cubicBezTo>
                        <a:pt x="1172" y="1552"/>
                        <a:pt x="1007" y="1562"/>
                        <a:pt x="1016" y="1564"/>
                      </a:cubicBezTo>
                      <a:cubicBezTo>
                        <a:pt x="1024" y="1566"/>
                        <a:pt x="972" y="1532"/>
                        <a:pt x="900" y="1500"/>
                      </a:cubicBezTo>
                      <a:cubicBezTo>
                        <a:pt x="900" y="1516"/>
                        <a:pt x="836" y="1500"/>
                        <a:pt x="832" y="1516"/>
                      </a:cubicBezTo>
                      <a:cubicBezTo>
                        <a:pt x="828" y="1532"/>
                        <a:pt x="828" y="1596"/>
                        <a:pt x="828" y="1596"/>
                      </a:cubicBezTo>
                      <a:cubicBezTo>
                        <a:pt x="837" y="1639"/>
                        <a:pt x="798" y="1607"/>
                        <a:pt x="812" y="1648"/>
                      </a:cubicBezTo>
                      <a:cubicBezTo>
                        <a:pt x="809" y="1677"/>
                        <a:pt x="844" y="1689"/>
                        <a:pt x="832" y="1716"/>
                      </a:cubicBezTo>
                      <a:cubicBezTo>
                        <a:pt x="819" y="1743"/>
                        <a:pt x="868" y="1768"/>
                        <a:pt x="892" y="1772"/>
                      </a:cubicBezTo>
                      <a:cubicBezTo>
                        <a:pt x="855" y="1760"/>
                        <a:pt x="898" y="1886"/>
                        <a:pt x="864" y="1872"/>
                      </a:cubicBezTo>
                      <a:cubicBezTo>
                        <a:pt x="792" y="1880"/>
                        <a:pt x="736" y="1863"/>
                        <a:pt x="692" y="1852"/>
                      </a:cubicBezTo>
                      <a:cubicBezTo>
                        <a:pt x="643" y="1840"/>
                        <a:pt x="568" y="1832"/>
                        <a:pt x="520" y="1820"/>
                      </a:cubicBezTo>
                      <a:cubicBezTo>
                        <a:pt x="446" y="1771"/>
                        <a:pt x="370" y="1789"/>
                        <a:pt x="260" y="1784"/>
                      </a:cubicBezTo>
                      <a:cubicBezTo>
                        <a:pt x="225" y="1775"/>
                        <a:pt x="97" y="1711"/>
                        <a:pt x="80" y="1744"/>
                      </a:cubicBezTo>
                      <a:cubicBezTo>
                        <a:pt x="49" y="1803"/>
                        <a:pt x="100" y="1814"/>
                        <a:pt x="132" y="1872"/>
                      </a:cubicBezTo>
                      <a:cubicBezTo>
                        <a:pt x="141" y="1889"/>
                        <a:pt x="154" y="1934"/>
                        <a:pt x="172" y="1940"/>
                      </a:cubicBezTo>
                      <a:cubicBezTo>
                        <a:pt x="188" y="1945"/>
                        <a:pt x="176" y="2008"/>
                        <a:pt x="176" y="2008"/>
                      </a:cubicBezTo>
                      <a:cubicBezTo>
                        <a:pt x="202" y="2047"/>
                        <a:pt x="191" y="2140"/>
                        <a:pt x="240" y="2156"/>
                      </a:cubicBezTo>
                      <a:cubicBezTo>
                        <a:pt x="232" y="2217"/>
                        <a:pt x="172" y="2232"/>
                        <a:pt x="100" y="2212"/>
                      </a:cubicBezTo>
                      <a:cubicBezTo>
                        <a:pt x="46" y="2248"/>
                        <a:pt x="79" y="2240"/>
                        <a:pt x="0" y="2240"/>
                      </a:cubicBezTo>
                    </a:path>
                  </a:pathLst>
                </a:custGeom>
                <a:noFill/>
                <a:ln w="3816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2050920" y="4410000"/>
                  <a:ext cx="1225800" cy="216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Skomielna Biał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971640" y="2898720"/>
                  <a:ext cx="863640" cy="216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Wadowic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780000" y="4914720"/>
                  <a:ext cx="863280" cy="216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owy Targ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1763640" y="5418000"/>
                  <a:ext cx="1206720" cy="19368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zarny Dunajec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1763640" y="5057640"/>
                  <a:ext cx="776520" cy="2034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Jabłonk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411360" y="455436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3348000" y="433836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1908000" y="307980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708360" y="513072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3154320" y="536868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2689200" y="4633920"/>
                  <a:ext cx="765360" cy="761760"/>
                </a:xfrm>
                <a:custGeom>
                  <a:avLst/>
                  <a:gdLst/>
                  <a:ahLst/>
                  <a:rect l="l" t="t" r="r" b="b"/>
                  <a:pathLst>
                    <a:path w="482" h="480">
                      <a:moveTo>
                        <a:pt x="482" y="0"/>
                      </a:moveTo>
                      <a:cubicBezTo>
                        <a:pt x="467" y="15"/>
                        <a:pt x="424" y="21"/>
                        <a:pt x="406" y="32"/>
                      </a:cubicBezTo>
                      <a:cubicBezTo>
                        <a:pt x="326" y="52"/>
                        <a:pt x="256" y="69"/>
                        <a:pt x="162" y="72"/>
                      </a:cubicBezTo>
                      <a:cubicBezTo>
                        <a:pt x="124" y="85"/>
                        <a:pt x="115" y="122"/>
                        <a:pt x="82" y="144"/>
                      </a:cubicBezTo>
                      <a:cubicBezTo>
                        <a:pt x="65" y="178"/>
                        <a:pt x="49" y="142"/>
                        <a:pt x="34" y="176"/>
                      </a:cubicBezTo>
                      <a:cubicBezTo>
                        <a:pt x="27" y="191"/>
                        <a:pt x="42" y="248"/>
                        <a:pt x="50" y="252"/>
                      </a:cubicBezTo>
                      <a:cubicBezTo>
                        <a:pt x="47" y="260"/>
                        <a:pt x="10" y="320"/>
                        <a:pt x="10" y="320"/>
                      </a:cubicBezTo>
                      <a:cubicBezTo>
                        <a:pt x="27" y="371"/>
                        <a:pt x="0" y="367"/>
                        <a:pt x="90" y="380"/>
                      </a:cubicBezTo>
                      <a:cubicBezTo>
                        <a:pt x="157" y="390"/>
                        <a:pt x="187" y="411"/>
                        <a:pt x="250" y="432"/>
                      </a:cubicBezTo>
                      <a:cubicBezTo>
                        <a:pt x="254" y="437"/>
                        <a:pt x="323" y="480"/>
                        <a:pt x="298" y="480"/>
                      </a:cubicBezTo>
                    </a:path>
                  </a:pathLst>
                </a:custGeom>
                <a:noFill/>
                <a:ln w="38160">
                  <a:solidFill>
                    <a:srgbClr val="6633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627280" y="513072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3635280" y="4554360"/>
                  <a:ext cx="505080" cy="216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Rabka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3522600" y="611964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708360" y="6210360"/>
                  <a:ext cx="863640" cy="215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Zakopan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6156360" y="4122720"/>
                  <a:ext cx="863640" cy="215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Nowy Sącz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5973840" y="438444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2556000" y="3402000"/>
                  <a:ext cx="792000" cy="215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Myślenice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3454560" y="333036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"/>
                <p:cNvSpPr/>
                <p:nvPr/>
              </p:nvSpPr>
              <p:spPr>
                <a:xfrm>
                  <a:off x="5724360" y="2322360"/>
                  <a:ext cx="719280" cy="216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Brzesko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686560" y="261756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875640" y="237312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6732720" y="2033640"/>
                  <a:ext cx="576000" cy="215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Tarnó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968480" y="2970000"/>
                  <a:ext cx="1257480" cy="284400"/>
                </a:xfrm>
                <a:custGeom>
                  <a:avLst/>
                  <a:gdLst/>
                  <a:ahLst/>
                  <a:rect l="l" t="t" r="r" b="b"/>
                  <a:pathLst>
                    <a:path w="792" h="179">
                      <a:moveTo>
                        <a:pt x="792" y="0"/>
                      </a:moveTo>
                      <a:cubicBezTo>
                        <a:pt x="777" y="10"/>
                        <a:pt x="759" y="14"/>
                        <a:pt x="744" y="24"/>
                      </a:cubicBezTo>
                      <a:cubicBezTo>
                        <a:pt x="702" y="52"/>
                        <a:pt x="618" y="128"/>
                        <a:pt x="576" y="156"/>
                      </a:cubicBezTo>
                      <a:cubicBezTo>
                        <a:pt x="523" y="179"/>
                        <a:pt x="469" y="146"/>
                        <a:pt x="396" y="144"/>
                      </a:cubicBezTo>
                      <a:cubicBezTo>
                        <a:pt x="323" y="142"/>
                        <a:pt x="206" y="149"/>
                        <a:pt x="140" y="144"/>
                      </a:cubicBezTo>
                      <a:cubicBezTo>
                        <a:pt x="121" y="138"/>
                        <a:pt x="21" y="112"/>
                        <a:pt x="0" y="112"/>
                      </a:cubicBezTo>
                    </a:path>
                  </a:pathLst>
                </a:custGeom>
                <a:noFill/>
                <a:ln w="57240">
                  <a:solidFill>
                    <a:srgbClr val="66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2340000" y="2754360"/>
                  <a:ext cx="863640" cy="21564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Głogoczó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218040" y="2931840"/>
                  <a:ext cx="129960" cy="1098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31320" bIns="313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348000" y="2089080"/>
                  <a:ext cx="185760" cy="16020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64000" y="1962000"/>
                  <a:ext cx="647640" cy="216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Kraków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4067280" y="3978000"/>
                  <a:ext cx="96840" cy="96840"/>
                </a:xfrm>
                <a:prstGeom prst="ellipse">
                  <a:avLst/>
                </a:prstGeom>
                <a:solidFill>
                  <a:srgbClr val="0000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1960" bIns="219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211640" y="3617640"/>
                  <a:ext cx="865080" cy="216000"/>
                </a:xfrm>
                <a:prstGeom prst="rect">
                  <a:avLst/>
                </a:prstGeom>
                <a:solidFill>
                  <a:srgbClr val="bbe0e3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pl-PL" sz="1200" spc="-1" strike="noStrike">
                      <a:solidFill>
                        <a:srgbClr val="000000"/>
                      </a:solidFill>
                      <a:latin typeface="Arial"/>
                    </a:rPr>
                    <a:t>Mszana Dln.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"/>
              <p:cNvSpPr/>
              <p:nvPr/>
            </p:nvSpPr>
            <p:spPr>
              <a:xfrm>
                <a:off x="4792320" y="115920"/>
                <a:ext cx="3474000" cy="36828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Arial"/>
                  </a:rPr>
                  <a:t>Trasy dojazdu do Zakopanego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"/>
            <p:cNvSpPr/>
            <p:nvPr/>
          </p:nvSpPr>
          <p:spPr>
            <a:xfrm>
              <a:off x="3581280" y="2057400"/>
              <a:ext cx="835200" cy="3070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l-PL" sz="1400" spc="-1" strike="noStrike">
                  <a:solidFill>
                    <a:srgbClr val="000000"/>
                  </a:solidFill>
                  <a:latin typeface="Arial"/>
                </a:rPr>
                <a:t>Krakó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304920" y="0"/>
            <a:ext cx="8534160" cy="2057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04920" y="152280"/>
            <a:ext cx="471240" cy="6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838080" y="0"/>
            <a:ext cx="7089840" cy="27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200" spc="-1" strike="noStrike">
                <a:solidFill>
                  <a:srgbClr val="000000"/>
                </a:solidFill>
                <a:latin typeface="Arial"/>
              </a:rPr>
              <a:t>TRASA GŁÓWNA: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Kraków  (PAOK) – Myślenice – Skomielna Biała – Rabka – Nowy Targ - Zak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36600" y="506520"/>
            <a:ext cx="471600" cy="69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905040" y="235080"/>
            <a:ext cx="7089480" cy="26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00"/>
                </a:solidFill>
                <a:uFillTx/>
                <a:latin typeface="Arial"/>
              </a:rPr>
              <a:t>Trasy alternatywne ( dla samochodów osobowych 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879480" y="460440"/>
            <a:ext cx="7089840" cy="26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aków  (PAOK) –Wieliczka – DW 964 – Dobczyce – Kasina Wlk.- DK 28 – Mszana Dln.- Rabka – DK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49200" y="735120"/>
            <a:ext cx="471600" cy="6984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905040" y="676440"/>
            <a:ext cx="7089480" cy="26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ka DK7 –Jabłonka – DW 957 – Czarny Dunajec – DW 958 Zak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36600" y="988920"/>
            <a:ext cx="471600" cy="6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05040" y="896760"/>
            <a:ext cx="7089480" cy="27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bka DW 958 – Czarny Dunajec – DW 958 Zakopa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00" y="1204920"/>
            <a:ext cx="471600" cy="69840"/>
          </a:xfrm>
          <a:prstGeom prst="rect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917640" y="1112760"/>
            <a:ext cx="7089840" cy="27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Kraków  (PAOK) – DK7 –Głogoczów – DK 52- Wadowice- DK28 Sucha Beskidzka- Skomielna Biała- DK7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80880" y="1523880"/>
            <a:ext cx="471600" cy="698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990720" y="1447920"/>
            <a:ext cx="7088040" cy="26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4 – Chrzanów – DW933 – Oświęcim DK 44 – Zator DK 44 i DK28 Wadowice- DK28 Sucha Beskidzk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Skomielna Biała- DK7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0880" y="1828800"/>
            <a:ext cx="471600" cy="6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14400" y="1752480"/>
            <a:ext cx="7089840" cy="27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arnów DK4 – Brzesko DK75- Nowy Sącz DW 969 – Nowy Targ DK49 – Bukowina Tatrzańska DW 96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788000" y="6095880"/>
            <a:ext cx="4356000" cy="276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SY GŁÓWNE I ALTERNATYWNE DO ZAKOPAN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03" name="Picture 4" descr="Stopka"/>
            <p:cNvPicPr/>
            <p:nvPr/>
          </p:nvPicPr>
          <p:blipFill>
            <a:blip r:embed="rId2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5" name="Picture 6" descr=""/>
            <p:cNvPicPr/>
            <p:nvPr/>
          </p:nvPicPr>
          <p:blipFill>
            <a:blip r:embed="rId3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250920" y="1753560"/>
            <a:ext cx="8893080" cy="457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 u="sng">
                <a:solidFill>
                  <a:srgbClr val="ffff00"/>
                </a:solidFill>
                <a:uFillTx/>
                <a:latin typeface="Arial"/>
              </a:rPr>
              <a:t>Termin zmian organizacji ruchu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Wprowadzenie strefy ograniczonego ruchu pojazdów - ulic zamkniętych dla ruchu - nastąpi dnia 23.01.2008 r. od godz. 22.0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Ruch jednokierunkowy zostanie wprowadzony dnia 24.01.2008 r. od godz. 10.00.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na ulicach Droga do Olczy (do skrzyżowania z ul. Broniewskiego),            Droga na Bystre, Przewodników Tatrzańskich, Karłowicza, Droga na Antałówkę, Broniewskiego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Przywrócenie pierwotnej organizacji ruchu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nastąpi po zakończeniu zawodów,  w dniu 26.01.2008 r. do godz. 24.00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UWAGA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Osoby udające się na zawody, proszone są o umieszczeni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1800" spc="-1" strike="noStrike">
                <a:solidFill>
                  <a:srgbClr val="ffff00"/>
                </a:solidFill>
                <a:latin typeface="Arial"/>
              </a:rPr>
              <a:t>za przednią szybą pojazdu, w górnej części, czystej białej kartki formatu A-4,  co umożliwi policjantom skierowanie pojazdu na wolny park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08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0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"/>
          <p:cNvSpPr/>
          <p:nvPr/>
        </p:nvSpPr>
        <p:spPr>
          <a:xfrm>
            <a:off x="0" y="226800"/>
            <a:ext cx="9144000" cy="1191240"/>
          </a:xfrm>
          <a:prstGeom prst="rect">
            <a:avLst/>
          </a:pr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ZMIANY ORGANIZACJI RUCHU NA TERENIE ZAKOPANEGO NA CZAS PUCHARU ŚWIATA W SKOKACH NARCIARSKICH 23-26 stycznia 2008 rok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52280" y="0"/>
            <a:ext cx="8991720" cy="635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Ulice wyłączone z ruch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Zostanie utworzona strefa B-1 „zakaz ruchu w obu kierunkach", poprzez umieszczenie w poprzek jezdni zapór drogowych ze znakiem B-1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„zakaz ruchu  w obu kierunkach''  na ulicac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l. PIŁSUDSKIEG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d skrzyżowania z ul. Makuszyński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l. CZECHA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od skrzyżowania z ul. Przewodników Tatrzańskic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l. GOSZCZYŃSKIEG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od skrzyżowania z ul. Makuszyński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- ul. ŻEROMSKIEGO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od skrzyżowania z ul. Makuszyński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ul. SABAŁ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- od skrzyżowania z ul. Zamoyski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refa ta obejmuje również ulice Szymanowskiego, Zwierzyniecką, Tuwima, Pocztowców i Po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Za zgodą służb policyjnych w strefę B-1- zakazu ruchu - mogą wjeżdżać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tali mieszkańc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na podstawie zameldowania w dowodzie osobistym lub innym dokumenci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osoby wynajmujące pokoj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 obrębie strefy B-1 na podstawie zezwolenia wydanego przez Urząd Miasta Zakopane (kserokopia z oryginałem pieczątki) na wjazd na posesję, bez prawa parkowani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służby miejskie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 miarę potrzeb w godzinach nocnych na podstawie zezwolenia wydanego  przez Urząd Miasta Zakopan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zaopatrzenie stałych punktów handlowo-gastronomicznych i straganów może nastąpić tylko  w godzinach nocnych (od godz. 24.00 do 8.00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3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14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6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/>
          <p:nvPr/>
        </p:nvSpPr>
        <p:spPr>
          <a:xfrm>
            <a:off x="0" y="228600"/>
            <a:ext cx="8915400" cy="61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Zakaz zatrzymywania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– od dnia 24.01.2008 roku do 26.01.2008 roku – obowiązywał będzie na następujących ulicach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Żeromskiego, Makuszyńskiego, Piłsudskiego, Chałubińskiego, Zamoyskiego, Tetmajera, Droga na Bystre, Balzera, Broniewski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Zaparkowanie pojazdu wbrew zakazowi skutkować będzie odholowaniem samochodu              na koszt właściciela</a:t>
            </a:r>
            <a:r>
              <a:rPr b="1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Stanowiska postojowe </a:t>
            </a:r>
            <a:r>
              <a:rPr b="1" lang="en-US" sz="2400" spc="-1" strike="noStrike" u="sng">
                <a:solidFill>
                  <a:srgbClr val="ffff00"/>
                </a:solidFill>
                <a:uFillTx/>
                <a:latin typeface="Arial"/>
              </a:rPr>
              <a:t>dla samochodów osobowych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wyznaczono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l. SIENKIEWICZ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od skrzyżowania z ul. Witkiewicza               do skrzyżowania z ul. Kościuszk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Stanowiska postojowe </a:t>
            </a:r>
            <a:r>
              <a:rPr b="1" lang="en-US" sz="2400" spc="-1" strike="noStrike" u="sng">
                <a:solidFill>
                  <a:srgbClr val="ffcc00"/>
                </a:solidFill>
                <a:uFillTx/>
                <a:latin typeface="Arial"/>
              </a:rPr>
              <a:t>dla autobusów</a:t>
            </a: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 wyznaczono n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ul. DROGA DO OLCZY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od skrzyżowania z Drogą na Antałówkę do skrzyżowania z ul. Broniewskieg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19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1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228600" y="685800"/>
            <a:ext cx="8915400" cy="52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pl-PL" sz="2400" spc="-1" strike="noStrike" u="sng">
                <a:solidFill>
                  <a:srgbClr val="ffff00"/>
                </a:solidFill>
                <a:uFillTx/>
                <a:latin typeface="Arial"/>
              </a:rPr>
              <a:t>Ulice jednokierunkowe - wprowadzone na czas Pucharu Świata -  od godz. 10.00 dnia 24.01.200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l. DROGA DO OLCZY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- od skrzyżowania z ul. Drogą na Bystre                                do skrzyżowania z ul. Broniewski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l. DROGA NA BYSTRE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od skrzyżowania z rondem Jana Pawła II                                do skrzyżowania z Drogą Do Olcz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l. PRZEWODNIKÓW TATRZAŃSKICH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d skrzyżowania z rondem Jana Pawła II do skrzyżowania z Karłowicza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l. KARŁOWICZA 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d skrzyżowania z ul. Przewodników Tatrzańskich                               do skrzyżowania z Drogą Do Olczy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l. DROGA NA ANTAŁÓWKĘ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od skrzyżowania z Drogą Do Olczy                        do skrzyżowania  z ul. Broniewski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l. BRONIEWSKIEGO - DROGA DO BRISTOLU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-</a:t>
            </a: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 od skrzyżowania z Drogą Na Antałówkę do skrzyżowania z ul. Chałubińskiego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24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52280" y="0"/>
            <a:ext cx="8991720" cy="633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pl-PL" sz="2800" spc="-1" strike="noStrike" u="sng">
                <a:solidFill>
                  <a:srgbClr val="ffff00"/>
                </a:solidFill>
                <a:uFillTx/>
                <a:latin typeface="Arial"/>
              </a:rPr>
              <a:t>Aktualne ulice jednokierunkow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l. KRASZEWSKIEGO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-  od skrzyżowania z ul. Chałubińskiego                           do skrzyżowania z ul. Zamoyskieg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l. WITKIEWICZA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- od skrzyżowania z ul. Zamoyskiego do skrzyżowania              z ul. Sienkiewic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l. SIENKIEWICZA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- od skrzyżowania z ul. Witkiewicza do skrzyżowania                 z ul. Kościuszki i od skrzyżowania z ul. Nowotarską do skrzyżowania                   z ul. Kościuszki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l. GIMNAZJALNA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- od skrzyżowania z ul. Chramcówki do skrzyżowania               z ul. Sienkiewicza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ul. GOSZCZYŃSKIEGO</a:t>
            </a: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 - od skrzyżowania z ul. Makuszyńskiego                         do skrzyżowania z ul. Tetmaje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UWAG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W związku z budową podziemnego przejścia dla pieszych zamknięta jest ul. Kościeliska (droga wojewódzka nr 958) w rejonie skrzyżowania z ul. Krupówki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Objazd dla pojazdów wjeżdżających od Nowego Targu, został poprowadzony                                    z ul. Nowotarskiej w kierunku miejscowości Kościelisko. </a:t>
            </a:r>
            <a:r>
              <a:rPr b="1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Osoby jadące z kierunku Czarnego Dunajca (droga wojewódzka  nr 958), aby uniknąć wjazdu do centrum Zakopanego powinny w miejscowości Kościelisko skręcić w lewo                     z drogi wojewódzkiej nr 958 w ul. Nędzy Kubiń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8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29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1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762120" y="685440"/>
            <a:ext cx="691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Utrudnienia na małopolskich droga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58920" y="1812960"/>
            <a:ext cx="6985080" cy="4086360"/>
          </a:xfrm>
          <a:prstGeom prst="rect">
            <a:avLst/>
          </a:prstGeom>
          <a:solidFill>
            <a:srgbClr val="bbe0e3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Pełna informacja o utrudnieniach na drogach związanych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z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modernizacją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 dróg znajdują się 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na stronach internetowych</a:t>
            </a:r>
            <a:r>
              <a:rPr b="1" i="1" lang="pl-PL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"/>
              <a:tabLst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Generalnej Dyrekcji Dróg Krajowych  i Autostrad </a:t>
            </a:r>
            <a:r>
              <a:rPr b="1" i="1" lang="pl-PL" sz="2400" spc="-1" strike="noStrike">
                <a:solidFill>
                  <a:srgbClr val="990000"/>
                </a:solidFill>
                <a:latin typeface="Times New Roman"/>
              </a:rPr>
              <a:t>                       </a:t>
            </a:r>
            <a:r>
              <a:rPr b="1" i="1" lang="pl-PL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w </a:t>
            </a:r>
            <a:r>
              <a:rPr b="1" i="1" lang="pl-PL" sz="24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Krakowi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0" lang="pl-PL" sz="2800" spc="-1" strike="noStrike" u="sng">
                <a:solidFill>
                  <a:srgbClr val="009999"/>
                </a:solidFill>
                <a:uFillTx/>
                <a:latin typeface="Times New Roman"/>
                <a:hlinkClick r:id="rId1"/>
              </a:rPr>
              <a:t>www.krakow.gddkia.gov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"/>
              <a:tabLst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i="1" lang="pl-PL" sz="2400" spc="-1" strike="noStrike">
                <a:solidFill>
                  <a:srgbClr val="990000"/>
                </a:solidFill>
                <a:latin typeface="Times New Roman"/>
              </a:rPr>
              <a:t>Autostrada A4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www.autostrada-a4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"/>
              <a:tabLst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Symbol" charset="2"/>
              <a:buChar char=""/>
              <a:tabLst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Zarządu </a:t>
            </a:r>
            <a:r>
              <a:rPr b="1" i="1" lang="pl-PL" sz="2400" spc="-1" strike="noStrike">
                <a:solidFill>
                  <a:srgbClr val="990000"/>
                </a:solidFill>
                <a:latin typeface="Times New Roman"/>
              </a:rPr>
              <a:t>Dróg</a:t>
            </a:r>
            <a:r>
              <a:rPr b="1" i="1" lang="en-US" sz="2400" spc="-1" strike="noStrike">
                <a:solidFill>
                  <a:srgbClr val="990000"/>
                </a:solidFill>
                <a:latin typeface="Times New Roman"/>
              </a:rPr>
              <a:t> Wojewódzkich w Krakowie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 – </a:t>
            </a:r>
            <a:r>
              <a:rPr b="1" i="1" lang="pl-P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Times New Roman"/>
                <a:hlinkClick r:id="rId3"/>
              </a:rPr>
              <a:t>www.e-drogi.pl/zdwk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31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4"/>
          <a:stretch/>
        </p:blipFill>
        <p:spPr>
          <a:xfrm>
            <a:off x="0" y="5105520"/>
            <a:ext cx="1523880" cy="1331640"/>
          </a:xfrm>
          <a:prstGeom prst="rect">
            <a:avLst/>
          </a:prstGeom>
          <a:ln w="0">
            <a:noFill/>
          </a:ln>
        </p:spPr>
      </p:pic>
      <p:grpSp>
        <p:nvGrpSpPr>
          <p:cNvPr id="235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36" name="Picture 4" descr="Stopka"/>
            <p:cNvPicPr/>
            <p:nvPr/>
          </p:nvPicPr>
          <p:blipFill>
            <a:blip r:embed="rId5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8" name="Picture 6" descr=""/>
            <p:cNvPicPr/>
            <p:nvPr/>
          </p:nvPicPr>
          <p:blipFill>
            <a:blip r:embed="rId6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9" name="" descr=""/>
          <p:cNvPicPr/>
          <p:nvPr/>
        </p:nvPicPr>
        <p:blipFill>
          <a:blip r:embed="rId7"/>
          <a:stretch/>
        </p:blipFill>
        <p:spPr>
          <a:xfrm>
            <a:off x="7067520" y="0"/>
            <a:ext cx="207648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0" y="87480"/>
          <a:ext cx="9144000" cy="6541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87480"/>
                    <a:ext cx="9144000" cy="65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2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43" name="Picture 4" descr="Stopka"/>
            <p:cNvPicPr/>
            <p:nvPr/>
          </p:nvPicPr>
          <p:blipFill>
            <a:blip r:embed="rId3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5" name="Picture 6" descr=""/>
            <p:cNvPicPr/>
            <p:nvPr/>
          </p:nvPicPr>
          <p:blipFill>
            <a:blip r:embed="rId4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6" name=""/>
          <p:cNvGraphicFramePr/>
          <p:nvPr/>
        </p:nvGraphicFramePr>
        <p:xfrm>
          <a:off x="0" y="228600"/>
          <a:ext cx="9144000" cy="6248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9144000" cy="624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248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49" name="Picture 4" descr="Stopka"/>
            <p:cNvPicPr/>
            <p:nvPr/>
          </p:nvPicPr>
          <p:blipFill>
            <a:blip r:embed="rId3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1" name="Picture 6" descr=""/>
            <p:cNvPicPr/>
            <p:nvPr/>
          </p:nvPicPr>
          <p:blipFill>
            <a:blip r:embed="rId4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6934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owiązek  używania łańcuchów przeciwślizgowych – drogi krajow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ffffff"/>
                </a:solidFill>
                <a:latin typeface="Arial"/>
              </a:rPr>
              <a:t>Wykaz dróg krajowych, na których  istnieje obowiązek używania łańcuchów przeciwślizgowych (C-18) a pod znakiem umieszczono tabliczkę T-23b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znaczającą, że nakaz ten dotyczy samochodów ciężarowych, pojazdów specjalnych, pojazdów używanych do celów specjalnych o dopuszczalnej masie całkowitej przekraczającej 3,5 tony oraz ciągników samochodow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Droga krajowa nr 7</a:t>
            </a:r>
            <a:r>
              <a:rPr b="0" lang="pl-PL" sz="16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ierunek Kraków – Chyżne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: odcinek Myślenice ( km 697+300 ) – Podwlik ( km 743+400 ) odługości 46,1 km. Znaki ustawione  w Głogoczowie i Myślenica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kierunek Chyżne - Kraków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:</a:t>
            </a: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- odcinek Jabłonka ( km 759+400 ) – Myślenice ( km 697+300 ) o długości 62,1 km. Obejmuje miejscowości : Stróża, Pcim, Lubień Krzeczów, Naprawa, Skomielna Biała, Rabka, Skawa, Spytkowice, Podwilk, Jabłon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Droga krajowa nr 4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dcinek Rabka ( 0+100 ) – Nowy Targ ( km 18+700 ) o długości 18,6 km. Obejmuje miejscowości : Rabka, Chabówka, Rdzawka ( Piątkowa Góra ), Rdzawka, Klikuszowa, Nowy Targ  ( Niwa 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Droga krajowa nr 2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dcinek Osielec – Skomielna Biała. </a:t>
            </a: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ejmuje miejscowości :  Osielec, Jordanó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dcinek Mszana – Nowy Sącz</a:t>
            </a: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ejmuje miejscowości : Mszana Dolna, Kasina Wielka, Dobra, Tymbark, Mordarka, Siekierczyna, Trzetrzewina, Chełmie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dcinek Nowy Sącz – Biecz</a:t>
            </a:r>
            <a:br>
              <a:rPr sz="1400"/>
            </a:b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ejmuje miejscowości :  Mszalnica, Cieniawa, Ptaszkowa, Stara Wieś, Nizna, Ropa, Bie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ffff00"/>
                </a:solidFill>
                <a:latin typeface="Arial"/>
              </a:rPr>
              <a:t>Droga krajowa nr 75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dcinek Wytrzyszczka – Nowy Sącz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ejmuje miejscowości : Łososina Dolna, Bilsko, Tęgoborze J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dc. Nowy Sącz – Kry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Obejmuje miejscowości :  Roztoka, Mochnaczka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55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7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8153280" y="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4"/>
          <a:stretch/>
        </p:blipFill>
        <p:spPr>
          <a:xfrm>
            <a:off x="30492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Arial"/>
              </a:rPr>
              <a:t>Program Pucharu Świata Zakopane 200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4.01.200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odz.   12.00 – odprawa techniczn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odz. 15.00 – I oficjalny trening ( 2 serie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odz. 17.00 – seria kwalifikacyj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.01.200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odz. 16.00 – seria próbna skokó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odz. 17.00 – Puchar Świata – konkurs indywidualny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6.01.2008 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odz. 16.00 – seria próbna skoków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odz. 17.00 – Puchar Świata – konkurs indywidualny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61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/>
          </p:nvPr>
        </p:nvSpPr>
        <p:spPr>
          <a:xfrm>
            <a:off x="456840" y="761760"/>
            <a:ext cx="8458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ykaz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dróg wojewódzkich, na których  istnieje obowiązek używania łańcuchów przeciwślizgowych (C-18) a pod znakiem umieszczono tabliczkę T-23b </a:t>
            </a:r>
            <a:r>
              <a:rPr b="0" lang="pl-PL" sz="1600" spc="-1" strike="noStrike">
                <a:solidFill>
                  <a:srgbClr val="ffffff"/>
                </a:solidFill>
                <a:latin typeface="Arial"/>
              </a:rPr>
              <a:t>oznaczającą, że nakaz ten dotyczy samochodów ciężarowych, pojazdów specjalnych, pojazdów używanych do celów specjalnych o dopuszczalnej masie całkowitej przekraczającej 3,5 tony oraz ciągników samochodowych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W nr 78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– Nowa Wie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W nr 783</a:t>
            </a:r>
            <a:r>
              <a:rPr b="0" lang="pl-P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– Miechów i Falnió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W nr 957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– Zawoja i Zubrzyca Gór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W nr 960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– Bukowina Tatrzańska i Łysa Pola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W nr 96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– Poron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W nr 969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– Krościenko, Maniowy, Krośnica, Nowy Ta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W nr 977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– Małastów, Gładyszów, Zborowice, Siedliska, Poręba        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Radlna, Zabłędza,  Gorl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00"/>
                </a:solidFill>
                <a:latin typeface="Arial"/>
              </a:rPr>
              <a:t>DW nr 981</a:t>
            </a:r>
            <a:r>
              <a:rPr b="0" lang="pl-PL" sz="2000" spc="-1" strike="noStrike">
                <a:solidFill>
                  <a:srgbClr val="ffffff"/>
                </a:solidFill>
                <a:latin typeface="Arial"/>
              </a:rPr>
              <a:t> – Polany i Krzyżówka, Kryn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pl-PL" sz="1600" spc="-1" strike="noStrike">
                <a:solidFill>
                  <a:srgbClr val="ffffff"/>
                </a:solidFill>
                <a:latin typeface="Arial"/>
              </a:rPr>
              <a:t>Informacja o obowiązku posiadania łańcuchów  na drodze krajowej                           jest powtarzana przy skrzyżowaniach z drogami wojewódzkimi i powiatowy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066680" y="0"/>
            <a:ext cx="6934320" cy="6094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bowiązek  używania łańcuchów przeciwślizgowych – drogi wojewódzki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63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5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8229600" y="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228600" y="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2923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3600" spc="-1" strike="noStrike" u="sng">
                <a:solidFill>
                  <a:srgbClr val="ffff00"/>
                </a:solidFill>
                <a:uFillTx/>
                <a:latin typeface="Arial"/>
              </a:rPr>
              <a:t>Sprawdź przed podróżą:</a:t>
            </a:r>
            <a:br>
              <a:rPr sz="3600"/>
            </a:br>
            <a:br>
              <a:rPr sz="36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czy masz przy sobie wszystkie wymagane przepisami dokumenty i czy są one aktualne,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czy twój samochód jest sprawny technicznie                    (ogumienie, oświetlenie) i jest odpowiednio wyposażony,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- czy leki, które zażywasz pozwalają na bezpieczne kierowanie pojazdem.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9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70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2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4479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ezpiecznik drogowy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676160" y="1066320"/>
            <a:ext cx="746748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 WRD KWP w Krakowie i w Radio Alfa opracowano broszurkę informacyjną, w której zawarto podstawowe zasady bezpieczeństwa  na drogach w okresie zimowym, zamieszczono wskazówki, na co zwrócić uwagę odprowadzając dziecko do autokaru wycieczkowego                  i wskazano jednocześnie numery kontaktowe, pod którymi można prosić o policyjną kontrolę autobus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5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76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78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79" name="" descr=""/>
          <p:cNvPicPr/>
          <p:nvPr/>
        </p:nvPicPr>
        <p:blipFill>
          <a:blip r:embed="rId3"/>
          <a:srcRect l="5435" t="11459" r="5811" b="5032"/>
          <a:stretch/>
        </p:blipFill>
        <p:spPr>
          <a:xfrm>
            <a:off x="0" y="0"/>
            <a:ext cx="1954080" cy="259092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0" y="3200400"/>
            <a:ext cx="8915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odatkowo przekazano w niej informację o trasach dojazdowych             do Zakopanego, zmianach w organizacji ruchu na zakopiańskich ulicach  w czasie rozgrywania zawodów w skokach narciarskich, a także rady jak zachować się na miejscu zdarzenia drogowego (w broszurce znajduje się przydatny podczas stłuczki wzór oświadczenia o spowodowaniu kolizji drogowej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ezpiecznik drogowy” – wydany w nakładzie 40 tys. sztuk - będzie przekazywany kierującym podczas kontroli drogowych, a na antenie Radia Alfa prowadzona będzie kampania na temat bezpieczeństwa na droga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„</a:t>
            </a: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Bądź bezpieczny 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-360" y="1066320"/>
            <a:ext cx="8991720" cy="22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W dniach 25 i 26 stycznia w godz. 11.00 – 14.00 w pobliżu skoczni – na ul. B. Czecha  w Zakopanem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-  Wydział Ruchu Drogowego KWP w Krakowie,  KPP w Zakopanem                    wraz z Gazetą Krakowską i firmą Actigra zorganizują imprezę prewencyjną dla kibiców Pucharu Świata w Skokach Narciarski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84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86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7" name=""/>
          <p:cNvSpPr/>
          <p:nvPr/>
        </p:nvSpPr>
        <p:spPr>
          <a:xfrm>
            <a:off x="0" y="3276720"/>
            <a:ext cx="89154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pl-PL" sz="2000" spc="-1" strike="noStrike">
                <a:solidFill>
                  <a:srgbClr val="ffff00"/>
                </a:solidFill>
                <a:latin typeface="Arial"/>
              </a:rPr>
              <a:t>Podczas imprezy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Nastąpi prezentacja symulatora zderzeń propagującego zapinanie pasów bezpieczeństwa przygotowana przez  firmę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ACTIGRA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ostanie przeprowadzona prezentacja wpływu alkoholu na zachowanie człowieka, w tym na zdolność, prowadzenia pojazdów po spożyciu alkoholu -  </a:t>
            </a:r>
            <a:r>
              <a:rPr b="1" lang="pl-PL" sz="1400" spc="-1" strike="noStrike">
                <a:solidFill>
                  <a:srgbClr val="ffffff"/>
                </a:solidFill>
                <a:latin typeface="Arial"/>
              </a:rPr>
              <a:t>za pomocą tzw. alkogogli </a:t>
            </a: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/symulujących sposób widzenia w stanie upojenia alkoholowego/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Będzie możliwość sprawdzenia poziomu alkoholu w organizmie - badania alkotestem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Będą przekazywane materiały profilaktyczne –  „Bezpiecznik drogowy” (broszurka zawierająca informacje przydatne dla osób wyjeżdżających na ferie i dla kibiców przybyłych na puchar świata w skokach), ulotek dotyczących alkoholu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Zostanie przeprowadzony pokaz pierwszej  pomocy przedmedycznej w wykonaniu ratownika TOPR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Ponadto będą inne atrakcje przygotowane przez organizatorów związane z bezpiecznym wypoczynkiem w czasie ferii zimowyc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rcRect l="0" t="0" r="7692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9" name=""/>
          <p:cNvSpPr/>
          <p:nvPr/>
        </p:nvSpPr>
        <p:spPr>
          <a:xfrm>
            <a:off x="1446120" y="4648320"/>
            <a:ext cx="6120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MAŁOPOLSKA POLIC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ŻYCZY BEZPIECZNEJ DROG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291" name="Picture 4" descr="Stopka"/>
            <p:cNvPicPr/>
            <p:nvPr/>
          </p:nvPicPr>
          <p:blipFill>
            <a:blip r:embed="rId2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3" name="Picture 6" descr=""/>
            <p:cNvPicPr/>
            <p:nvPr/>
          </p:nvPicPr>
          <p:blipFill>
            <a:blip r:embed="rId3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4" name=""/>
          <p:cNvGrpSpPr/>
          <p:nvPr/>
        </p:nvGrpSpPr>
        <p:grpSpPr>
          <a:xfrm>
            <a:off x="3429000" y="1523880"/>
            <a:ext cx="2139480" cy="2133360"/>
            <a:chOff x="3429000" y="1523880"/>
            <a:chExt cx="2139480" cy="2133360"/>
          </a:xfrm>
        </p:grpSpPr>
        <p:pic>
          <p:nvPicPr>
            <p:cNvPr id="295" name="WordPictureWatermark3" descr=""/>
            <p:cNvPicPr/>
            <p:nvPr/>
          </p:nvPicPr>
          <p:blipFill>
            <a:blip r:embed="rId4"/>
            <a:stretch/>
          </p:blipFill>
          <p:spPr>
            <a:xfrm>
              <a:off x="3429000" y="1523880"/>
              <a:ext cx="2139480" cy="2133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3930840" y="2957400"/>
              <a:ext cx="1127160" cy="5893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80880" y="533520"/>
            <a:ext cx="8294760" cy="60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Udając się do Zakopaneg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 zawody Pucharu Świata w Skokach Narciarskich – w dniach 24 – 26 stycznia 2008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amiętaj 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astąpią zmiany w organizacji ruch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włóż za przednią szybę pojazdu białą kartkę formatu A4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– będzie ona sygnałem dla policjantów i służb porządkowych, żeby skierować pojazd na parking, na którym są jeszcze wolne miejsca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tosuj się do poleceń policjantó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strażników miejskich i innych osób uprawnionych do wydawania poleceń na drodz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-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samochód parkuj na wyznaczonym parkingu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na wielu ulicach obowiązywał będzie zakaz parkowania i zakaz ruchu pojazdów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-"/>
              <a:tabLst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1" lang="en-US" sz="2000" spc="-1" strike="noStrike">
                <a:solidFill>
                  <a:srgbClr val="ffff00"/>
                </a:solidFill>
                <a:latin typeface="Arial"/>
              </a:rPr>
              <a:t>nie zostawiaj wartościowych przedmiotó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 zaparkowanym samochodz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66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Puchar Świata </a:t>
            </a:r>
            <a:br>
              <a:rPr sz="2200"/>
            </a:b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w Skokach Narciarskich w Zakopanem jest</a:t>
            </a: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br>
              <a:rPr sz="10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REZĄ MASOWĄ </a:t>
            </a:r>
            <a:br>
              <a:rPr sz="1000"/>
            </a:br>
            <a:r>
              <a:rPr b="1" lang="en-US" sz="2400" spc="-1" strike="noStrike" u="sng">
                <a:solidFill>
                  <a:srgbClr val="ff3300"/>
                </a:solidFill>
                <a:uFillTx/>
                <a:latin typeface="Times New Roman"/>
              </a:rPr>
              <a:t>w związku z tym zabrania się m.in.:</a:t>
            </a:r>
            <a:br>
              <a:rPr sz="1000"/>
            </a:br>
            <a:br>
              <a:rPr sz="500"/>
            </a:b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wnoszenia lub posiadania napojów alkoholowych,</a:t>
            </a:r>
            <a:br>
              <a:rPr sz="2200"/>
            </a:b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rzucania przedmiotów, mogących stanowić zagrożenie                                    dla życia, zdrowia lub bezpieczeństwa osób przebywających na terenie imprezy masowej</a:t>
            </a:r>
            <a:br>
              <a:rPr sz="2200"/>
            </a:br>
            <a:r>
              <a:rPr b="1" lang="en-US" sz="2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 wnoszenia lub posiadania na broni, innych niebezpiecznych przedmiotów lub materiałów wybuchowych,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f3300"/>
                </a:solidFill>
                <a:latin typeface="Times New Roman"/>
              </a:rPr>
              <a:t>-</a:t>
            </a:r>
            <a:r>
              <a:rPr b="0" lang="en-US" sz="2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2200" spc="-1" strike="noStrike">
                <a:solidFill>
                  <a:srgbClr val="ffff00"/>
                </a:solidFill>
                <a:latin typeface="Times New Roman"/>
              </a:rPr>
              <a:t>wnoszenia lub posiadania wyrobów pirotechnicznych lub materiałów pożarowo niebezpiecznych,</a:t>
            </a:r>
            <a:br>
              <a:rPr sz="2200"/>
            </a:br>
            <a:br>
              <a:rPr sz="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UWAGA:</a:t>
            </a:r>
            <a:r>
              <a:rPr b="1" lang="en-US" sz="1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W rejonie skoczni nie przewidziano depozytu na przedmioty, </a:t>
            </a:r>
            <a:br>
              <a:rPr sz="1800"/>
            </a:br>
            <a:r>
              <a:rPr b="1" lang="en-US" sz="1800" spc="-1" strike="noStrike">
                <a:solidFill>
                  <a:srgbClr val="ff0000"/>
                </a:solidFill>
                <a:latin typeface="Times New Roman"/>
              </a:rPr>
              <a:t>których wnoszenie jest zabronione!!!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</a:t>
            </a:r>
            <a:br>
              <a:rPr sz="1600"/>
            </a:br>
            <a:br>
              <a:rPr sz="1800"/>
            </a:b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Karze podlega również osoba, która nie wykonuje polecenia porządkowego, wydanego na podstawie ustawy lub regulaminu imprezy masowej (obiektu) przez organizatora imprezy lub służby porządkowe.</a:t>
            </a:r>
            <a:br>
              <a:rPr sz="2200"/>
            </a:br>
            <a:r>
              <a:rPr b="1" i="1" lang="en-US" sz="1800" spc="-1" strike="noStrike">
                <a:solidFill>
                  <a:srgbClr val="ffff00"/>
                </a:solidFill>
                <a:latin typeface="Times New Roman"/>
              </a:rPr>
              <a:t>(Ustawa z dnia 22 sierpnia 1997 roku o bezpieczeństwie imprez masowych, Regulaminu Obiektu oraz Regulaminu Imprezy Masowej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58200" cy="147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 dniach rozgrywanych zawodów sportowych wejście na obiekt dla publiczności dostępne będzie w następujących godzinac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5 stycznia 2008 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warcie obiektu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dz. 1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Zamknięcie obiektu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dz. 16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6 stycznia 2008 rok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twarcie obiektu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dz. 11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Zamknięcie obiektu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godz. 16.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o godz. 16.00 w ww. dniach bramy </a:t>
            </a:r>
            <a:br>
              <a:rPr sz="2800"/>
            </a:b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obiektu zostaną zamknięte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563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PODCZAS TRWANIA ZAWODÓW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 obiekcie zostanie zorganizowany Punkt Dzieci Zaginionych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UWAŻAJ - duże skupisko ludzi w jednym miejscu sprzyja działaniu kieszonkowców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szelkie problemy, które napotkasz podczas uczestniczenia w zawodach, zgłaszaj pracownikom służby porządkowej organizatora, pełniącej służbę na terenie obiektu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 zaistniałym przestępstwie należy zgłosić dyżurnemu Komendy Powiatowej Policji               w Zakopanem, tel. alarmowy 997 lub 11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80880" y="609480"/>
            <a:ext cx="829476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ffff00"/>
                </a:solidFill>
                <a:latin typeface="Times New Roman"/>
              </a:rPr>
              <a:t>DOJAZD I POWRÓT Z ZAKOPANE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związku z przewidywanym znaczącym wzrostem natężenia ruchu drogowego na drogach dojazdowych i wyjazdowych                         z Zakopanego w okresie Pucharu Świata kierujący powinni korzystać oprócz „zakopianki” również z dróg alternatywnych, szczególnie, jeżeli ze względu na cel podróży nie muszą kierować się bezpośrednio na Kraków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ffffff"/>
                </a:solidFill>
                <a:latin typeface="Arial"/>
              </a:rPr>
              <a:t>W przypadku znacznego pogorszenia warunków atmosferycznych, związanego  z intensywnymi opadami śniegu, oblodzeniami, itp. proponuje się korzystać z dróg  o najwyższym standardzie utrzymania – przede wszystkim dróg krajowych, w tym głównie              z „zakopianki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00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75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7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0" y="-243000"/>
            <a:ext cx="9144000" cy="7101000"/>
            <a:chOff x="0" y="-243000"/>
            <a:chExt cx="9144000" cy="7101000"/>
          </a:xfrm>
        </p:grpSpPr>
        <p:grpSp>
          <p:nvGrpSpPr>
            <p:cNvPr id="80" name=""/>
            <p:cNvGrpSpPr/>
            <p:nvPr/>
          </p:nvGrpSpPr>
          <p:grpSpPr>
            <a:xfrm>
              <a:off x="0" y="-243000"/>
              <a:ext cx="9144000" cy="7101000"/>
              <a:chOff x="0" y="-243000"/>
              <a:chExt cx="9144000" cy="7101000"/>
            </a:xfrm>
          </p:grpSpPr>
          <p:pic>
            <p:nvPicPr>
              <p:cNvPr id="81" name="" descr=""/>
              <p:cNvPicPr/>
              <p:nvPr/>
            </p:nvPicPr>
            <p:blipFill>
              <a:blip r:embed="rId1"/>
              <a:srcRect l="3319" t="1214" r="2929" b="1716"/>
              <a:stretch/>
            </p:blipFill>
            <p:spPr>
              <a:xfrm>
                <a:off x="0" y="-243000"/>
                <a:ext cx="9144000" cy="7101000"/>
              </a:xfrm>
              <a:prstGeom prst="rect">
                <a:avLst/>
              </a:prstGeom>
              <a:ln w="9360">
                <a:solidFill>
                  <a:srgbClr val="ff0000"/>
                </a:solidFill>
                <a:miter/>
              </a:ln>
            </p:spPr>
          </p:pic>
          <p:sp>
            <p:nvSpPr>
              <p:cNvPr id="82" name=""/>
              <p:cNvSpPr/>
              <p:nvPr/>
            </p:nvSpPr>
            <p:spPr>
              <a:xfrm>
                <a:off x="1668600" y="1687320"/>
                <a:ext cx="1728720" cy="2679840"/>
              </a:xfrm>
              <a:custGeom>
                <a:avLst/>
                <a:gdLst/>
                <a:ahLst/>
                <a:rect l="l" t="t" r="r" b="b"/>
                <a:pathLst>
                  <a:path w="1089" h="1688">
                    <a:moveTo>
                      <a:pt x="61" y="0"/>
                    </a:moveTo>
                    <a:cubicBezTo>
                      <a:pt x="89" y="60"/>
                      <a:pt x="0" y="10"/>
                      <a:pt x="47" y="104"/>
                    </a:cubicBezTo>
                    <a:cubicBezTo>
                      <a:pt x="53" y="116"/>
                      <a:pt x="76" y="179"/>
                      <a:pt x="89" y="182"/>
                    </a:cubicBezTo>
                    <a:cubicBezTo>
                      <a:pt x="137" y="218"/>
                      <a:pt x="83" y="304"/>
                      <a:pt x="95" y="284"/>
                    </a:cubicBezTo>
                    <a:cubicBezTo>
                      <a:pt x="107" y="356"/>
                      <a:pt x="109" y="252"/>
                      <a:pt x="89" y="344"/>
                    </a:cubicBezTo>
                    <a:cubicBezTo>
                      <a:pt x="69" y="380"/>
                      <a:pt x="78" y="381"/>
                      <a:pt x="85" y="436"/>
                    </a:cubicBezTo>
                    <a:cubicBezTo>
                      <a:pt x="82" y="470"/>
                      <a:pt x="67" y="509"/>
                      <a:pt x="69" y="548"/>
                    </a:cubicBezTo>
                    <a:cubicBezTo>
                      <a:pt x="75" y="566"/>
                      <a:pt x="85" y="657"/>
                      <a:pt x="97" y="672"/>
                    </a:cubicBezTo>
                    <a:cubicBezTo>
                      <a:pt x="97" y="708"/>
                      <a:pt x="145" y="748"/>
                      <a:pt x="153" y="752"/>
                    </a:cubicBezTo>
                    <a:cubicBezTo>
                      <a:pt x="157" y="792"/>
                      <a:pt x="177" y="847"/>
                      <a:pt x="185" y="852"/>
                    </a:cubicBezTo>
                    <a:cubicBezTo>
                      <a:pt x="229" y="917"/>
                      <a:pt x="178" y="838"/>
                      <a:pt x="197" y="912"/>
                    </a:cubicBezTo>
                    <a:cubicBezTo>
                      <a:pt x="202" y="931"/>
                      <a:pt x="233" y="1000"/>
                      <a:pt x="233" y="1000"/>
                    </a:cubicBezTo>
                    <a:cubicBezTo>
                      <a:pt x="256" y="965"/>
                      <a:pt x="227" y="1079"/>
                      <a:pt x="261" y="1056"/>
                    </a:cubicBezTo>
                    <a:cubicBezTo>
                      <a:pt x="266" y="1064"/>
                      <a:pt x="260" y="1106"/>
                      <a:pt x="261" y="1116"/>
                    </a:cubicBezTo>
                    <a:cubicBezTo>
                      <a:pt x="268" y="1161"/>
                      <a:pt x="317" y="1146"/>
                      <a:pt x="333" y="1188"/>
                    </a:cubicBezTo>
                    <a:cubicBezTo>
                      <a:pt x="339" y="1203"/>
                      <a:pt x="373" y="1181"/>
                      <a:pt x="389" y="1184"/>
                    </a:cubicBezTo>
                    <a:cubicBezTo>
                      <a:pt x="392" y="1192"/>
                      <a:pt x="369" y="1232"/>
                      <a:pt x="389" y="1240"/>
                    </a:cubicBezTo>
                    <a:cubicBezTo>
                      <a:pt x="393" y="1283"/>
                      <a:pt x="411" y="1282"/>
                      <a:pt x="421" y="1324"/>
                    </a:cubicBezTo>
                    <a:cubicBezTo>
                      <a:pt x="423" y="1332"/>
                      <a:pt x="429" y="1374"/>
                      <a:pt x="437" y="1376"/>
                    </a:cubicBezTo>
                    <a:cubicBezTo>
                      <a:pt x="453" y="1380"/>
                      <a:pt x="485" y="1393"/>
                      <a:pt x="501" y="1396"/>
                    </a:cubicBezTo>
                    <a:cubicBezTo>
                      <a:pt x="512" y="1398"/>
                      <a:pt x="570" y="1401"/>
                      <a:pt x="581" y="1404"/>
                    </a:cubicBezTo>
                    <a:cubicBezTo>
                      <a:pt x="607" y="1421"/>
                      <a:pt x="584" y="1426"/>
                      <a:pt x="613" y="1436"/>
                    </a:cubicBezTo>
                    <a:cubicBezTo>
                      <a:pt x="627" y="1507"/>
                      <a:pt x="609" y="1486"/>
                      <a:pt x="649" y="1512"/>
                    </a:cubicBezTo>
                    <a:cubicBezTo>
                      <a:pt x="658" y="1518"/>
                      <a:pt x="669" y="1520"/>
                      <a:pt x="685" y="1516"/>
                    </a:cubicBezTo>
                    <a:cubicBezTo>
                      <a:pt x="689" y="1522"/>
                      <a:pt x="705" y="1528"/>
                      <a:pt x="709" y="1532"/>
                    </a:cubicBezTo>
                    <a:cubicBezTo>
                      <a:pt x="713" y="1536"/>
                      <a:pt x="710" y="1539"/>
                      <a:pt x="709" y="1540"/>
                    </a:cubicBezTo>
                    <a:cubicBezTo>
                      <a:pt x="714" y="1551"/>
                      <a:pt x="697" y="1528"/>
                      <a:pt x="705" y="1536"/>
                    </a:cubicBezTo>
                    <a:cubicBezTo>
                      <a:pt x="748" y="1579"/>
                      <a:pt x="733" y="1564"/>
                      <a:pt x="781" y="1584"/>
                    </a:cubicBezTo>
                    <a:cubicBezTo>
                      <a:pt x="784" y="1611"/>
                      <a:pt x="756" y="1563"/>
                      <a:pt x="773" y="1584"/>
                    </a:cubicBezTo>
                    <a:cubicBezTo>
                      <a:pt x="787" y="1601"/>
                      <a:pt x="937" y="1668"/>
                      <a:pt x="861" y="1636"/>
                    </a:cubicBezTo>
                    <a:cubicBezTo>
                      <a:pt x="937" y="1672"/>
                      <a:pt x="915" y="1678"/>
                      <a:pt x="1001" y="1684"/>
                    </a:cubicBezTo>
                    <a:cubicBezTo>
                      <a:pt x="1012" y="1681"/>
                      <a:pt x="1042" y="1671"/>
                      <a:pt x="1053" y="1668"/>
                    </a:cubicBezTo>
                    <a:cubicBezTo>
                      <a:pt x="1061" y="1666"/>
                      <a:pt x="1089" y="1688"/>
                      <a:pt x="1089" y="1688"/>
                    </a:cubicBezTo>
                  </a:path>
                </a:pathLst>
              </a:custGeom>
              <a:noFill/>
              <a:ln w="38160">
                <a:solidFill>
                  <a:srgbClr val="ff66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3236760" y="2570040"/>
                <a:ext cx="555840" cy="3556080"/>
              </a:xfrm>
              <a:custGeom>
                <a:avLst/>
                <a:gdLst/>
                <a:ahLst/>
                <a:rect l="l" t="t" r="r" b="b"/>
                <a:pathLst>
                  <a:path w="350" h="2240">
                    <a:moveTo>
                      <a:pt x="89" y="0"/>
                    </a:moveTo>
                    <a:cubicBezTo>
                      <a:pt x="85" y="75"/>
                      <a:pt x="99" y="80"/>
                      <a:pt x="41" y="92"/>
                    </a:cubicBezTo>
                    <a:cubicBezTo>
                      <a:pt x="20" y="124"/>
                      <a:pt x="46" y="110"/>
                      <a:pt x="49" y="160"/>
                    </a:cubicBezTo>
                    <a:cubicBezTo>
                      <a:pt x="46" y="184"/>
                      <a:pt x="36" y="228"/>
                      <a:pt x="13" y="236"/>
                    </a:cubicBezTo>
                    <a:cubicBezTo>
                      <a:pt x="0" y="275"/>
                      <a:pt x="3" y="329"/>
                      <a:pt x="13" y="368"/>
                    </a:cubicBezTo>
                    <a:cubicBezTo>
                      <a:pt x="14" y="372"/>
                      <a:pt x="21" y="371"/>
                      <a:pt x="25" y="372"/>
                    </a:cubicBezTo>
                    <a:cubicBezTo>
                      <a:pt x="44" y="375"/>
                      <a:pt x="62" y="377"/>
                      <a:pt x="81" y="380"/>
                    </a:cubicBezTo>
                    <a:cubicBezTo>
                      <a:pt x="85" y="410"/>
                      <a:pt x="87" y="429"/>
                      <a:pt x="105" y="452"/>
                    </a:cubicBezTo>
                    <a:cubicBezTo>
                      <a:pt x="112" y="472"/>
                      <a:pt x="146" y="469"/>
                      <a:pt x="161" y="484"/>
                    </a:cubicBezTo>
                    <a:cubicBezTo>
                      <a:pt x="177" y="508"/>
                      <a:pt x="165" y="484"/>
                      <a:pt x="141" y="528"/>
                    </a:cubicBezTo>
                    <a:cubicBezTo>
                      <a:pt x="146" y="549"/>
                      <a:pt x="129" y="564"/>
                      <a:pt x="117" y="576"/>
                    </a:cubicBezTo>
                    <a:cubicBezTo>
                      <a:pt x="106" y="619"/>
                      <a:pt x="141" y="636"/>
                      <a:pt x="181" y="660"/>
                    </a:cubicBezTo>
                    <a:cubicBezTo>
                      <a:pt x="188" y="682"/>
                      <a:pt x="213" y="719"/>
                      <a:pt x="221" y="744"/>
                    </a:cubicBezTo>
                    <a:cubicBezTo>
                      <a:pt x="225" y="727"/>
                      <a:pt x="214" y="912"/>
                      <a:pt x="229" y="900"/>
                    </a:cubicBezTo>
                    <a:cubicBezTo>
                      <a:pt x="237" y="894"/>
                      <a:pt x="189" y="980"/>
                      <a:pt x="189" y="980"/>
                    </a:cubicBezTo>
                    <a:cubicBezTo>
                      <a:pt x="101" y="992"/>
                      <a:pt x="52" y="1046"/>
                      <a:pt x="57" y="1068"/>
                    </a:cubicBezTo>
                    <a:cubicBezTo>
                      <a:pt x="56" y="1119"/>
                      <a:pt x="129" y="1081"/>
                      <a:pt x="125" y="1132"/>
                    </a:cubicBezTo>
                    <a:cubicBezTo>
                      <a:pt x="124" y="1146"/>
                      <a:pt x="141" y="1296"/>
                      <a:pt x="141" y="1216"/>
                    </a:cubicBezTo>
                    <a:cubicBezTo>
                      <a:pt x="134" y="1299"/>
                      <a:pt x="166" y="1373"/>
                      <a:pt x="177" y="1412"/>
                    </a:cubicBezTo>
                    <a:cubicBezTo>
                      <a:pt x="190" y="1452"/>
                      <a:pt x="211" y="1450"/>
                      <a:pt x="221" y="1456"/>
                    </a:cubicBezTo>
                    <a:cubicBezTo>
                      <a:pt x="231" y="1462"/>
                      <a:pt x="225" y="1452"/>
                      <a:pt x="237" y="1448"/>
                    </a:cubicBezTo>
                    <a:cubicBezTo>
                      <a:pt x="225" y="1436"/>
                      <a:pt x="252" y="1451"/>
                      <a:pt x="241" y="1484"/>
                    </a:cubicBezTo>
                    <a:cubicBezTo>
                      <a:pt x="240" y="1488"/>
                      <a:pt x="333" y="1676"/>
                      <a:pt x="333" y="1676"/>
                    </a:cubicBezTo>
                    <a:cubicBezTo>
                      <a:pt x="340" y="1722"/>
                      <a:pt x="321" y="1917"/>
                      <a:pt x="337" y="1948"/>
                    </a:cubicBezTo>
                    <a:cubicBezTo>
                      <a:pt x="350" y="1974"/>
                      <a:pt x="272" y="2027"/>
                      <a:pt x="293" y="2048"/>
                    </a:cubicBezTo>
                    <a:cubicBezTo>
                      <a:pt x="303" y="2077"/>
                      <a:pt x="304" y="2121"/>
                      <a:pt x="317" y="2140"/>
                    </a:cubicBezTo>
                    <a:cubicBezTo>
                      <a:pt x="317" y="2154"/>
                      <a:pt x="140" y="2240"/>
                      <a:pt x="233" y="2240"/>
                    </a:cubicBezTo>
                  </a:path>
                </a:pathLst>
              </a:custGeom>
              <a:noFill/>
              <a:ln w="38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3073320" y="4627440"/>
                <a:ext cx="482760" cy="1690560"/>
              </a:xfrm>
              <a:custGeom>
                <a:avLst/>
                <a:gdLst/>
                <a:ahLst/>
                <a:rect l="l" t="t" r="r" b="b"/>
                <a:pathLst>
                  <a:path w="304" h="1065">
                    <a:moveTo>
                      <a:pt x="236" y="0"/>
                    </a:moveTo>
                    <a:cubicBezTo>
                      <a:pt x="235" y="7"/>
                      <a:pt x="233" y="27"/>
                      <a:pt x="224" y="32"/>
                    </a:cubicBezTo>
                    <a:cubicBezTo>
                      <a:pt x="218" y="35"/>
                      <a:pt x="211" y="34"/>
                      <a:pt x="204" y="36"/>
                    </a:cubicBezTo>
                    <a:cubicBezTo>
                      <a:pt x="196" y="38"/>
                      <a:pt x="180" y="44"/>
                      <a:pt x="180" y="44"/>
                    </a:cubicBezTo>
                    <a:cubicBezTo>
                      <a:pt x="168" y="62"/>
                      <a:pt x="156" y="77"/>
                      <a:pt x="136" y="84"/>
                    </a:cubicBezTo>
                    <a:cubicBezTo>
                      <a:pt x="139" y="124"/>
                      <a:pt x="164" y="164"/>
                      <a:pt x="156" y="212"/>
                    </a:cubicBezTo>
                    <a:cubicBezTo>
                      <a:pt x="155" y="239"/>
                      <a:pt x="167" y="262"/>
                      <a:pt x="164" y="288"/>
                    </a:cubicBezTo>
                    <a:cubicBezTo>
                      <a:pt x="162" y="301"/>
                      <a:pt x="140" y="324"/>
                      <a:pt x="140" y="324"/>
                    </a:cubicBezTo>
                    <a:cubicBezTo>
                      <a:pt x="136" y="457"/>
                      <a:pt x="160" y="479"/>
                      <a:pt x="84" y="492"/>
                    </a:cubicBezTo>
                    <a:cubicBezTo>
                      <a:pt x="75" y="520"/>
                      <a:pt x="95" y="522"/>
                      <a:pt x="68" y="540"/>
                    </a:cubicBezTo>
                    <a:cubicBezTo>
                      <a:pt x="49" y="569"/>
                      <a:pt x="28" y="596"/>
                      <a:pt x="8" y="624"/>
                    </a:cubicBezTo>
                    <a:cubicBezTo>
                      <a:pt x="0" y="636"/>
                      <a:pt x="12" y="668"/>
                      <a:pt x="12" y="668"/>
                    </a:cubicBezTo>
                    <a:cubicBezTo>
                      <a:pt x="13" y="700"/>
                      <a:pt x="8" y="728"/>
                      <a:pt x="12" y="760"/>
                    </a:cubicBezTo>
                    <a:cubicBezTo>
                      <a:pt x="13" y="765"/>
                      <a:pt x="3" y="767"/>
                      <a:pt x="4" y="772"/>
                    </a:cubicBezTo>
                    <a:cubicBezTo>
                      <a:pt x="8" y="785"/>
                      <a:pt x="9" y="799"/>
                      <a:pt x="12" y="812"/>
                    </a:cubicBezTo>
                    <a:cubicBezTo>
                      <a:pt x="14" y="820"/>
                      <a:pt x="20" y="836"/>
                      <a:pt x="20" y="836"/>
                    </a:cubicBezTo>
                    <a:cubicBezTo>
                      <a:pt x="22" y="865"/>
                      <a:pt x="23" y="889"/>
                      <a:pt x="32" y="916"/>
                    </a:cubicBezTo>
                    <a:cubicBezTo>
                      <a:pt x="33" y="931"/>
                      <a:pt x="32" y="946"/>
                      <a:pt x="36" y="960"/>
                    </a:cubicBezTo>
                    <a:cubicBezTo>
                      <a:pt x="38" y="968"/>
                      <a:pt x="60" y="971"/>
                      <a:pt x="64" y="972"/>
                    </a:cubicBezTo>
                    <a:cubicBezTo>
                      <a:pt x="72" y="974"/>
                      <a:pt x="88" y="980"/>
                      <a:pt x="88" y="980"/>
                    </a:cubicBezTo>
                    <a:cubicBezTo>
                      <a:pt x="100" y="1016"/>
                      <a:pt x="88" y="1019"/>
                      <a:pt x="132" y="1024"/>
                    </a:cubicBezTo>
                    <a:cubicBezTo>
                      <a:pt x="153" y="1065"/>
                      <a:pt x="206" y="1010"/>
                      <a:pt x="248" y="1008"/>
                    </a:cubicBezTo>
                    <a:cubicBezTo>
                      <a:pt x="287" y="995"/>
                      <a:pt x="277" y="1003"/>
                      <a:pt x="292" y="980"/>
                    </a:cubicBezTo>
                    <a:cubicBezTo>
                      <a:pt x="295" y="976"/>
                      <a:pt x="304" y="972"/>
                      <a:pt x="304" y="972"/>
                    </a:cubicBezTo>
                  </a:path>
                </a:pathLst>
              </a:custGeom>
              <a:noFill/>
              <a:ln w="38160">
                <a:solidFill>
                  <a:srgbClr val="008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3321000" y="2474640"/>
                <a:ext cx="819360" cy="1986120"/>
              </a:xfrm>
              <a:custGeom>
                <a:avLst/>
                <a:gdLst/>
                <a:ahLst/>
                <a:rect l="l" t="t" r="r" b="b"/>
                <a:pathLst>
                  <a:path w="516" h="1251">
                    <a:moveTo>
                      <a:pt x="272" y="0"/>
                    </a:moveTo>
                    <a:cubicBezTo>
                      <a:pt x="275" y="10"/>
                      <a:pt x="272" y="24"/>
                      <a:pt x="280" y="32"/>
                    </a:cubicBezTo>
                    <a:cubicBezTo>
                      <a:pt x="291" y="43"/>
                      <a:pt x="347" y="65"/>
                      <a:pt x="364" y="76"/>
                    </a:cubicBezTo>
                    <a:cubicBezTo>
                      <a:pt x="363" y="113"/>
                      <a:pt x="328" y="140"/>
                      <a:pt x="336" y="156"/>
                    </a:cubicBezTo>
                    <a:cubicBezTo>
                      <a:pt x="343" y="177"/>
                      <a:pt x="325" y="224"/>
                      <a:pt x="344" y="236"/>
                    </a:cubicBezTo>
                    <a:cubicBezTo>
                      <a:pt x="345" y="257"/>
                      <a:pt x="409" y="279"/>
                      <a:pt x="412" y="300"/>
                    </a:cubicBezTo>
                    <a:cubicBezTo>
                      <a:pt x="413" y="308"/>
                      <a:pt x="416" y="352"/>
                      <a:pt x="416" y="352"/>
                    </a:cubicBezTo>
                    <a:cubicBezTo>
                      <a:pt x="405" y="353"/>
                      <a:pt x="397" y="382"/>
                      <a:pt x="388" y="388"/>
                    </a:cubicBezTo>
                    <a:cubicBezTo>
                      <a:pt x="384" y="391"/>
                      <a:pt x="388" y="401"/>
                      <a:pt x="392" y="404"/>
                    </a:cubicBezTo>
                    <a:cubicBezTo>
                      <a:pt x="399" y="409"/>
                      <a:pt x="408" y="407"/>
                      <a:pt x="416" y="408"/>
                    </a:cubicBezTo>
                    <a:cubicBezTo>
                      <a:pt x="427" y="419"/>
                      <a:pt x="452" y="436"/>
                      <a:pt x="452" y="436"/>
                    </a:cubicBezTo>
                    <a:cubicBezTo>
                      <a:pt x="457" y="456"/>
                      <a:pt x="464" y="467"/>
                      <a:pt x="468" y="488"/>
                    </a:cubicBezTo>
                    <a:cubicBezTo>
                      <a:pt x="470" y="522"/>
                      <a:pt x="472" y="552"/>
                      <a:pt x="480" y="584"/>
                    </a:cubicBezTo>
                    <a:cubicBezTo>
                      <a:pt x="481" y="619"/>
                      <a:pt x="477" y="725"/>
                      <a:pt x="480" y="760"/>
                    </a:cubicBezTo>
                    <a:cubicBezTo>
                      <a:pt x="481" y="773"/>
                      <a:pt x="508" y="852"/>
                      <a:pt x="508" y="852"/>
                    </a:cubicBezTo>
                    <a:cubicBezTo>
                      <a:pt x="508" y="867"/>
                      <a:pt x="493" y="906"/>
                      <a:pt x="516" y="940"/>
                    </a:cubicBezTo>
                    <a:cubicBezTo>
                      <a:pt x="513" y="969"/>
                      <a:pt x="515" y="982"/>
                      <a:pt x="492" y="1000"/>
                    </a:cubicBezTo>
                    <a:cubicBezTo>
                      <a:pt x="484" y="1006"/>
                      <a:pt x="476" y="1011"/>
                      <a:pt x="468" y="1016"/>
                    </a:cubicBezTo>
                    <a:cubicBezTo>
                      <a:pt x="464" y="1019"/>
                      <a:pt x="456" y="1024"/>
                      <a:pt x="456" y="1024"/>
                    </a:cubicBezTo>
                    <a:cubicBezTo>
                      <a:pt x="448" y="1055"/>
                      <a:pt x="432" y="1057"/>
                      <a:pt x="404" y="1064"/>
                    </a:cubicBezTo>
                    <a:cubicBezTo>
                      <a:pt x="400" y="1068"/>
                      <a:pt x="395" y="1071"/>
                      <a:pt x="392" y="1076"/>
                    </a:cubicBezTo>
                    <a:cubicBezTo>
                      <a:pt x="390" y="1080"/>
                      <a:pt x="391" y="1085"/>
                      <a:pt x="388" y="1088"/>
                    </a:cubicBezTo>
                    <a:cubicBezTo>
                      <a:pt x="381" y="1097"/>
                      <a:pt x="364" y="1112"/>
                      <a:pt x="364" y="1112"/>
                    </a:cubicBezTo>
                    <a:cubicBezTo>
                      <a:pt x="354" y="1141"/>
                      <a:pt x="338" y="1163"/>
                      <a:pt x="312" y="1180"/>
                    </a:cubicBezTo>
                    <a:cubicBezTo>
                      <a:pt x="264" y="1251"/>
                      <a:pt x="160" y="1236"/>
                      <a:pt x="148" y="1240"/>
                    </a:cubicBezTo>
                    <a:cubicBezTo>
                      <a:pt x="168" y="1241"/>
                      <a:pt x="180" y="1241"/>
                      <a:pt x="200" y="1236"/>
                    </a:cubicBezTo>
                    <a:cubicBezTo>
                      <a:pt x="206" y="1235"/>
                      <a:pt x="128" y="1240"/>
                      <a:pt x="124" y="1236"/>
                    </a:cubicBezTo>
                    <a:cubicBezTo>
                      <a:pt x="117" y="1229"/>
                      <a:pt x="0" y="1196"/>
                      <a:pt x="76" y="1224"/>
                    </a:cubicBezTo>
                    <a:cubicBezTo>
                      <a:pt x="80" y="1220"/>
                      <a:pt x="152" y="1248"/>
                      <a:pt x="136" y="1240"/>
                    </a:cubicBezTo>
                    <a:cubicBezTo>
                      <a:pt x="147" y="1240"/>
                      <a:pt x="136" y="1240"/>
                      <a:pt x="136" y="1240"/>
                    </a:cubicBezTo>
                  </a:path>
                </a:pathLst>
              </a:custGeom>
              <a:noFill/>
              <a:ln w="38160">
                <a:solidFill>
                  <a:srgbClr val="cc00cc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3759120" y="2423880"/>
                <a:ext cx="3200400" cy="3568680"/>
              </a:xfrm>
              <a:custGeom>
                <a:avLst/>
                <a:gdLst/>
                <a:ahLst/>
                <a:rect l="l" t="t" r="r" b="b"/>
                <a:pathLst>
                  <a:path w="2016" h="2248">
                    <a:moveTo>
                      <a:pt x="2016" y="0"/>
                    </a:moveTo>
                    <a:cubicBezTo>
                      <a:pt x="1990" y="9"/>
                      <a:pt x="1970" y="31"/>
                      <a:pt x="1944" y="40"/>
                    </a:cubicBezTo>
                    <a:cubicBezTo>
                      <a:pt x="1895" y="56"/>
                      <a:pt x="1852" y="109"/>
                      <a:pt x="1800" y="116"/>
                    </a:cubicBezTo>
                    <a:cubicBezTo>
                      <a:pt x="1742" y="174"/>
                      <a:pt x="1700" y="136"/>
                      <a:pt x="1616" y="144"/>
                    </a:cubicBezTo>
                    <a:cubicBezTo>
                      <a:pt x="1524" y="142"/>
                      <a:pt x="1334" y="113"/>
                      <a:pt x="1216" y="152"/>
                    </a:cubicBezTo>
                    <a:cubicBezTo>
                      <a:pt x="1211" y="168"/>
                      <a:pt x="1205" y="184"/>
                      <a:pt x="1200" y="200"/>
                    </a:cubicBezTo>
                    <a:cubicBezTo>
                      <a:pt x="1197" y="208"/>
                      <a:pt x="1188" y="260"/>
                      <a:pt x="1188" y="260"/>
                    </a:cubicBezTo>
                    <a:cubicBezTo>
                      <a:pt x="1194" y="310"/>
                      <a:pt x="1207" y="286"/>
                      <a:pt x="1224" y="320"/>
                    </a:cubicBezTo>
                    <a:cubicBezTo>
                      <a:pt x="1238" y="349"/>
                      <a:pt x="1211" y="395"/>
                      <a:pt x="1232" y="416"/>
                    </a:cubicBezTo>
                    <a:cubicBezTo>
                      <a:pt x="1264" y="452"/>
                      <a:pt x="1227" y="468"/>
                      <a:pt x="1260" y="488"/>
                    </a:cubicBezTo>
                    <a:cubicBezTo>
                      <a:pt x="1287" y="508"/>
                      <a:pt x="1381" y="507"/>
                      <a:pt x="1396" y="536"/>
                    </a:cubicBezTo>
                    <a:cubicBezTo>
                      <a:pt x="1392" y="616"/>
                      <a:pt x="1416" y="621"/>
                      <a:pt x="1352" y="664"/>
                    </a:cubicBezTo>
                    <a:cubicBezTo>
                      <a:pt x="1306" y="803"/>
                      <a:pt x="1328" y="692"/>
                      <a:pt x="1328" y="692"/>
                    </a:cubicBezTo>
                    <a:cubicBezTo>
                      <a:pt x="1284" y="808"/>
                      <a:pt x="1293" y="808"/>
                      <a:pt x="1300" y="812"/>
                    </a:cubicBezTo>
                    <a:cubicBezTo>
                      <a:pt x="1317" y="821"/>
                      <a:pt x="1304" y="868"/>
                      <a:pt x="1304" y="868"/>
                    </a:cubicBezTo>
                    <a:cubicBezTo>
                      <a:pt x="1315" y="884"/>
                      <a:pt x="1309" y="948"/>
                      <a:pt x="1320" y="964"/>
                    </a:cubicBezTo>
                    <a:cubicBezTo>
                      <a:pt x="1360" y="1024"/>
                      <a:pt x="1364" y="997"/>
                      <a:pt x="1348" y="1044"/>
                    </a:cubicBezTo>
                    <a:cubicBezTo>
                      <a:pt x="1343" y="1060"/>
                      <a:pt x="1381" y="1070"/>
                      <a:pt x="1372" y="1084"/>
                    </a:cubicBezTo>
                    <a:cubicBezTo>
                      <a:pt x="1347" y="1122"/>
                      <a:pt x="1447" y="1055"/>
                      <a:pt x="1428" y="1112"/>
                    </a:cubicBezTo>
                    <a:cubicBezTo>
                      <a:pt x="1425" y="1120"/>
                      <a:pt x="1436" y="1208"/>
                      <a:pt x="1436" y="1208"/>
                    </a:cubicBezTo>
                    <a:cubicBezTo>
                      <a:pt x="1444" y="1204"/>
                      <a:pt x="1394" y="1454"/>
                      <a:pt x="1352" y="1440"/>
                    </a:cubicBezTo>
                    <a:cubicBezTo>
                      <a:pt x="1282" y="1487"/>
                      <a:pt x="1288" y="1456"/>
                      <a:pt x="1200" y="1512"/>
                    </a:cubicBezTo>
                    <a:cubicBezTo>
                      <a:pt x="1120" y="1522"/>
                      <a:pt x="1202" y="1559"/>
                      <a:pt x="1116" y="1564"/>
                    </a:cubicBezTo>
                    <a:cubicBezTo>
                      <a:pt x="1172" y="1552"/>
                      <a:pt x="1007" y="1562"/>
                      <a:pt x="1016" y="1564"/>
                    </a:cubicBezTo>
                    <a:cubicBezTo>
                      <a:pt x="1024" y="1566"/>
                      <a:pt x="972" y="1532"/>
                      <a:pt x="900" y="1500"/>
                    </a:cubicBezTo>
                    <a:cubicBezTo>
                      <a:pt x="900" y="1516"/>
                      <a:pt x="836" y="1500"/>
                      <a:pt x="832" y="1516"/>
                    </a:cubicBezTo>
                    <a:cubicBezTo>
                      <a:pt x="828" y="1532"/>
                      <a:pt x="828" y="1596"/>
                      <a:pt x="828" y="1596"/>
                    </a:cubicBezTo>
                    <a:cubicBezTo>
                      <a:pt x="837" y="1639"/>
                      <a:pt x="798" y="1607"/>
                      <a:pt x="812" y="1648"/>
                    </a:cubicBezTo>
                    <a:cubicBezTo>
                      <a:pt x="809" y="1677"/>
                      <a:pt x="844" y="1689"/>
                      <a:pt x="832" y="1716"/>
                    </a:cubicBezTo>
                    <a:cubicBezTo>
                      <a:pt x="819" y="1743"/>
                      <a:pt x="868" y="1768"/>
                      <a:pt x="892" y="1772"/>
                    </a:cubicBezTo>
                    <a:cubicBezTo>
                      <a:pt x="855" y="1760"/>
                      <a:pt x="898" y="1886"/>
                      <a:pt x="864" y="1872"/>
                    </a:cubicBezTo>
                    <a:cubicBezTo>
                      <a:pt x="792" y="1880"/>
                      <a:pt x="736" y="1863"/>
                      <a:pt x="692" y="1852"/>
                    </a:cubicBezTo>
                    <a:cubicBezTo>
                      <a:pt x="643" y="1840"/>
                      <a:pt x="568" y="1832"/>
                      <a:pt x="520" y="1820"/>
                    </a:cubicBezTo>
                    <a:cubicBezTo>
                      <a:pt x="446" y="1771"/>
                      <a:pt x="370" y="1789"/>
                      <a:pt x="260" y="1784"/>
                    </a:cubicBezTo>
                    <a:cubicBezTo>
                      <a:pt x="225" y="1775"/>
                      <a:pt x="97" y="1711"/>
                      <a:pt x="80" y="1744"/>
                    </a:cubicBezTo>
                    <a:cubicBezTo>
                      <a:pt x="49" y="1803"/>
                      <a:pt x="100" y="1814"/>
                      <a:pt x="132" y="1872"/>
                    </a:cubicBezTo>
                    <a:cubicBezTo>
                      <a:pt x="141" y="1889"/>
                      <a:pt x="154" y="1934"/>
                      <a:pt x="172" y="1940"/>
                    </a:cubicBezTo>
                    <a:cubicBezTo>
                      <a:pt x="188" y="1945"/>
                      <a:pt x="176" y="2008"/>
                      <a:pt x="176" y="2008"/>
                    </a:cubicBezTo>
                    <a:cubicBezTo>
                      <a:pt x="202" y="2047"/>
                      <a:pt x="191" y="2140"/>
                      <a:pt x="240" y="2156"/>
                    </a:cubicBezTo>
                    <a:cubicBezTo>
                      <a:pt x="232" y="2217"/>
                      <a:pt x="172" y="2232"/>
                      <a:pt x="100" y="2212"/>
                    </a:cubicBezTo>
                    <a:cubicBezTo>
                      <a:pt x="46" y="2248"/>
                      <a:pt x="79" y="2240"/>
                      <a:pt x="0" y="2240"/>
                    </a:cubicBezTo>
                  </a:path>
                </a:pathLst>
              </a:custGeom>
              <a:noFill/>
              <a:ln w="381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2050920" y="4410000"/>
                <a:ext cx="122580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Skomielna Biał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971640" y="2898720"/>
                <a:ext cx="86364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Wadow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3780000" y="4914720"/>
                <a:ext cx="86328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owy Targ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1763640" y="5418000"/>
                <a:ext cx="1206720" cy="19368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Czarny Dunajec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1763640" y="5057640"/>
                <a:ext cx="776520" cy="2034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Jabłonk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3411360" y="455436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3348000" y="433836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908000" y="307980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3708360" y="513072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3154320" y="536868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2689200" y="4633920"/>
                <a:ext cx="765360" cy="761760"/>
              </a:xfrm>
              <a:custGeom>
                <a:avLst/>
                <a:gdLst/>
                <a:ahLst/>
                <a:rect l="l" t="t" r="r" b="b"/>
                <a:pathLst>
                  <a:path w="482" h="480">
                    <a:moveTo>
                      <a:pt x="482" y="0"/>
                    </a:moveTo>
                    <a:cubicBezTo>
                      <a:pt x="467" y="15"/>
                      <a:pt x="424" y="21"/>
                      <a:pt x="406" y="32"/>
                    </a:cubicBezTo>
                    <a:cubicBezTo>
                      <a:pt x="326" y="52"/>
                      <a:pt x="256" y="69"/>
                      <a:pt x="162" y="72"/>
                    </a:cubicBezTo>
                    <a:cubicBezTo>
                      <a:pt x="124" y="85"/>
                      <a:pt x="115" y="122"/>
                      <a:pt x="82" y="144"/>
                    </a:cubicBezTo>
                    <a:cubicBezTo>
                      <a:pt x="65" y="178"/>
                      <a:pt x="49" y="142"/>
                      <a:pt x="34" y="176"/>
                    </a:cubicBezTo>
                    <a:cubicBezTo>
                      <a:pt x="27" y="191"/>
                      <a:pt x="42" y="248"/>
                      <a:pt x="50" y="252"/>
                    </a:cubicBezTo>
                    <a:cubicBezTo>
                      <a:pt x="47" y="260"/>
                      <a:pt x="10" y="320"/>
                      <a:pt x="10" y="320"/>
                    </a:cubicBezTo>
                    <a:cubicBezTo>
                      <a:pt x="27" y="371"/>
                      <a:pt x="0" y="367"/>
                      <a:pt x="90" y="380"/>
                    </a:cubicBezTo>
                    <a:cubicBezTo>
                      <a:pt x="157" y="390"/>
                      <a:pt x="187" y="411"/>
                      <a:pt x="250" y="432"/>
                    </a:cubicBezTo>
                    <a:cubicBezTo>
                      <a:pt x="254" y="437"/>
                      <a:pt x="323" y="480"/>
                      <a:pt x="298" y="480"/>
                    </a:cubicBezTo>
                  </a:path>
                </a:pathLst>
              </a:custGeom>
              <a:noFill/>
              <a:ln w="38160">
                <a:solidFill>
                  <a:srgbClr val="6633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2627280" y="513072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3635280" y="4554360"/>
                <a:ext cx="50508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Rabk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3522600" y="611964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3708360" y="6210360"/>
                <a:ext cx="8636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Zakopan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156360" y="4122720"/>
                <a:ext cx="8636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Nowy Sącz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973840" y="438444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556000" y="3402000"/>
                <a:ext cx="79200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Myślen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3454560" y="333036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5724360" y="2322360"/>
                <a:ext cx="71928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Brzesko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686560" y="261756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6875640" y="237312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6732720" y="2033640"/>
                <a:ext cx="57600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Tarnó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1968480" y="2970000"/>
                <a:ext cx="1257480" cy="284400"/>
              </a:xfrm>
              <a:custGeom>
                <a:avLst/>
                <a:gdLst/>
                <a:ahLst/>
                <a:rect l="l" t="t" r="r" b="b"/>
                <a:pathLst>
                  <a:path w="792" h="179">
                    <a:moveTo>
                      <a:pt x="792" y="0"/>
                    </a:moveTo>
                    <a:cubicBezTo>
                      <a:pt x="777" y="10"/>
                      <a:pt x="759" y="14"/>
                      <a:pt x="744" y="24"/>
                    </a:cubicBezTo>
                    <a:cubicBezTo>
                      <a:pt x="702" y="52"/>
                      <a:pt x="618" y="128"/>
                      <a:pt x="576" y="156"/>
                    </a:cubicBezTo>
                    <a:cubicBezTo>
                      <a:pt x="523" y="179"/>
                      <a:pt x="469" y="146"/>
                      <a:pt x="396" y="144"/>
                    </a:cubicBezTo>
                    <a:cubicBezTo>
                      <a:pt x="323" y="142"/>
                      <a:pt x="206" y="149"/>
                      <a:pt x="140" y="144"/>
                    </a:cubicBezTo>
                    <a:cubicBezTo>
                      <a:pt x="121" y="138"/>
                      <a:pt x="21" y="112"/>
                      <a:pt x="0" y="112"/>
                    </a:cubicBezTo>
                  </a:path>
                </a:pathLst>
              </a:custGeom>
              <a:noFill/>
              <a:ln w="57240">
                <a:solidFill>
                  <a:srgbClr val="66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2340000" y="2754360"/>
                <a:ext cx="863640" cy="21564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Arial"/>
                  </a:rPr>
                  <a:t>Głogoczó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3218040" y="2931840"/>
                <a:ext cx="129960" cy="1098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1320" bIns="3132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3348000" y="2089080"/>
                <a:ext cx="185760" cy="16020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564000" y="1962000"/>
                <a:ext cx="64764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Kraków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067280" y="3978000"/>
                <a:ext cx="96840" cy="96840"/>
              </a:xfrm>
              <a:prstGeom prst="ellips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960" bIns="219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211640" y="3617640"/>
                <a:ext cx="865080" cy="21600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l-PL" sz="1200" spc="-1" strike="noStrike">
                    <a:solidFill>
                      <a:srgbClr val="000000"/>
                    </a:solidFill>
                    <a:latin typeface="Arial"/>
                  </a:rPr>
                  <a:t>Mszana Dln.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7" name=""/>
            <p:cNvSpPr/>
            <p:nvPr/>
          </p:nvSpPr>
          <p:spPr>
            <a:xfrm>
              <a:off x="4792320" y="115920"/>
              <a:ext cx="3474000" cy="3682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rasy dojazdu do Zakopaneg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119" name="Picture 4" descr="Stopka"/>
            <p:cNvPicPr/>
            <p:nvPr/>
          </p:nvPicPr>
          <p:blipFill>
            <a:blip r:embed="rId2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0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1" name="Picture 6" descr=""/>
            <p:cNvPicPr/>
            <p:nvPr/>
          </p:nvPicPr>
          <p:blipFill>
            <a:blip r:embed="rId3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990720"/>
            <a:ext cx="468360" cy="6984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838080"/>
            <a:ext cx="7035840" cy="576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aków 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Południowe Autostradowe Obejście Krakowa)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Myślenice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roga krajowa nr 7)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Skomielna Biała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roga krajowa nr 7)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Rabka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roga krajowa nr 47)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Nowy Tar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droga krajowa nr 47)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Zako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133720"/>
            <a:ext cx="468360" cy="69840"/>
          </a:xfrm>
          <a:prstGeom prst="rect">
            <a:avLst/>
          </a:prstGeom>
          <a:solidFill>
            <a:srgbClr val="ff00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1600200"/>
            <a:ext cx="7035840" cy="27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rasy alternatywne - </a:t>
            </a:r>
            <a:r>
              <a:rPr b="1" i="1" lang="en-US" sz="1600" spc="-1" strike="noStrike" u="sng">
                <a:solidFill>
                  <a:srgbClr val="000000"/>
                </a:solidFill>
                <a:uFillTx/>
                <a:latin typeface="Arial"/>
              </a:rPr>
              <a:t>dla samochodów osobowych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057400"/>
            <a:ext cx="7035840" cy="27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aków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Południowe Autostradowe Obejście Krakowa)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Wieliczka – droga wojewódzka nr 96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obczyce – Kasina Wielka – droga krajowa nr 28 – Mszana Dolna - Rab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roga krajowa nr 7 – droga krajowa nr 47 - Zakopa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57200" y="2895480"/>
            <a:ext cx="468360" cy="69840"/>
          </a:xfrm>
          <a:prstGeom prst="rect">
            <a:avLst/>
          </a:prstGeom>
          <a:solidFill>
            <a:srgbClr val="800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066680" y="2819520"/>
            <a:ext cx="7035840" cy="26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bka – droga krajowa nr 7 – Jabłonka – droga wojewódzka nr  957 – Czarny Dunajec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oga wojewódzka nr 958 - Zako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57200" y="3505320"/>
            <a:ext cx="468360" cy="69840"/>
          </a:xfrm>
          <a:prstGeom prst="rect">
            <a:avLst/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990720" y="3505320"/>
            <a:ext cx="7035840" cy="26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abka – droga wojewódzka nr 958 – Czarny Dunajec – droga wojewódzka nr 9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Zako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4191120"/>
            <a:ext cx="468360" cy="69840"/>
          </a:xfrm>
          <a:prstGeom prst="rect">
            <a:avLst/>
          </a:prstGeom>
          <a:solidFill>
            <a:srgbClr val="6600ff"/>
          </a:solidFill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114800"/>
            <a:ext cx="7035840" cy="27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Kraków </a:t>
            </a: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(Południowe Autostradowe Obejście Krakowa)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 – droga krajowa nr 7 – Głogoczów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droga krajowa nr 52 – Wadowice – droga krajowa nr 28 - Sucha Beskidz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400" spc="-1" strike="noStrike">
                <a:solidFill>
                  <a:srgbClr val="000000"/>
                </a:solidFill>
                <a:latin typeface="Arial"/>
              </a:rPr>
              <a:t>- Skomielna Biała - droga krajowa nr 7 - Zako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0880" y="4952880"/>
            <a:ext cx="468360" cy="6984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4876920"/>
            <a:ext cx="7035840" cy="269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utostrada A4 – Chrzanów – droga wojewódzka nr 933 – Oświęcim – droga krajowa nr 44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Zator -  droga krajowa nr 44 i droga krajowa nr 28- Wadowice – droga krajowa nr 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Sucha Beskidzka - Skomielna Biała - droga krajowa nr 7 - Zako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0880" y="5791320"/>
            <a:ext cx="468360" cy="6984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3040" bIns="23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5715000"/>
            <a:ext cx="7035840" cy="270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nów – droga krajowa nr 4 – Brzesko – droga krajowa nr 75 - Nowy Sąc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roga wojewódzka nr 969 – Nowy Targ – droga krajowa nr 49 – Bukowina Tatrzańsk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 Droga wojewódzka nr 960 - Zakop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6000" y="380880"/>
            <a:ext cx="171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sa główn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899800" y="152280"/>
            <a:ext cx="3474000" cy="36828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sy dojazdu do Zakopane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Group 3"/>
          <p:cNvGrpSpPr/>
          <p:nvPr/>
        </p:nvGrpSpPr>
        <p:grpSpPr>
          <a:xfrm>
            <a:off x="0" y="6477120"/>
            <a:ext cx="9144000" cy="380880"/>
            <a:chOff x="0" y="6477120"/>
            <a:chExt cx="9144000" cy="380880"/>
          </a:xfrm>
        </p:grpSpPr>
        <p:pic>
          <p:nvPicPr>
            <p:cNvPr id="141" name="Picture 4" descr="Stopka"/>
            <p:cNvPicPr/>
            <p:nvPr/>
          </p:nvPicPr>
          <p:blipFill>
            <a:blip r:embed="rId1"/>
            <a:srcRect l="4168" t="-12012" r="25835" b="3504"/>
            <a:stretch/>
          </p:blipFill>
          <p:spPr>
            <a:xfrm>
              <a:off x="0" y="6477120"/>
              <a:ext cx="9144000" cy="38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Text Box 5"/>
            <p:cNvSpPr/>
            <p:nvPr/>
          </p:nvSpPr>
          <p:spPr>
            <a:xfrm>
              <a:off x="2514600" y="6553080"/>
              <a:ext cx="5154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200" spc="-1" strike="noStrike">
                  <a:solidFill>
                    <a:srgbClr val="ffffff"/>
                  </a:solidFill>
                  <a:latin typeface="Arial"/>
                </a:rPr>
                <a:t>Wydział Ruchu Drogowego Komendy Wojewódzkiej Policji w Krakowi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6" descr=""/>
            <p:cNvPicPr/>
            <p:nvPr/>
          </p:nvPicPr>
          <p:blipFill>
            <a:blip r:embed="rId2"/>
            <a:stretch/>
          </p:blipFill>
          <p:spPr>
            <a:xfrm>
              <a:off x="1828800" y="6553080"/>
              <a:ext cx="457200" cy="25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rzysztof.Dymura</cp:lastModifiedBy>
  <dcterms:modified xsi:type="dcterms:W3CDTF">2008-01-23T08:11:10Z</dcterms:modified>
  <cp:revision>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